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47124-2722-4D1A-9219-F1F32341E7D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8020B-3993-4AAE-8CAF-F03AC96F4E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40532-9EBE-4B1A-910F-3C2599670B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6C62D-F2CD-448C-86D3-9E95256B77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F457-B539-4A50-8BF7-CB9DB55AE4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E7919-6F05-412E-B14F-DE9874681B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6ABC-9AD8-4697-BC46-EE987F48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4949-97B3-405C-B904-B21FB89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F94-2862-4DA3-AF4C-6C68868D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440" y="17683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440" y="4057920"/>
            <a:ext cx="28551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DCE-196A-4A5B-A44E-7EA2FBDA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D115-9074-436A-9831-DF153F20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EBFA-F3ED-4E96-A79A-079BA27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5E59-61F2-4881-9371-0C7954EF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5B2-29E8-4E0D-AD94-2CA019A8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C84-CEF9-4A75-9230-B38F6BC6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4D7-32C2-40BB-9BC1-D7C9580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840" y="40579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63A-9D60-496B-A387-2C71B056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840" y="1768320"/>
            <a:ext cx="432720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88678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FF8-55C7-4995-9DC5-AB74A6A8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3A1584-1A4C-45FD-9363-6E3AC7CCC8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c00000"/>
                </a:solidFill>
                <a:latin typeface="Times New Roman"/>
              </a:rPr>
              <a:t>Ruby on Rai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539640" y="1779480"/>
            <a:ext cx="88585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2920" y="636480"/>
            <a:ext cx="886788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Скорость разработ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сновное преимуще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рость разработки проектов на RoR увеличивается на 30–40 процентов по отношению к любому другому языку программирования или фреймвор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оссальный набором готовых решени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I:\rails\content_samolet.jpg"/>
          <p:cNvPicPr/>
          <p:nvPr/>
        </p:nvPicPr>
        <p:blipFill>
          <a:blip r:embed="rId1"/>
          <a:stretch/>
        </p:blipFill>
        <p:spPr>
          <a:xfrm>
            <a:off x="3397320" y="1279440"/>
            <a:ext cx="2657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280" y="565200"/>
            <a:ext cx="9155160" cy="551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oR идеология предполагает изначальное использование методов BDD (Behavior Driven Development) или TDD (Test Driven Development). Это ускоряет переход проекта от стадии «программа написана» к стадии «программа работает без ошибо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I:\rails\content_5.jpg"/>
          <p:cNvPicPr/>
          <p:nvPr/>
        </p:nvPicPr>
        <p:blipFill>
          <a:blip r:embed="rId1"/>
          <a:stretch/>
        </p:blipFill>
        <p:spPr>
          <a:xfrm>
            <a:off x="3754440" y="851040"/>
            <a:ext cx="27766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31640" y="971280"/>
            <a:ext cx="893952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еш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товые и штатные реш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ние целых страниц или же блоков кода. Кеширование результаты запросов и ActiveRecord–мод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ешировать можно как при помощи memcached или redis, так и другими средств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держка различных языков на сайте как изначально, так и в дальнейш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аблоны для разных языков, конфигурационные файлы с переводами тер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60360" y="684000"/>
            <a:ext cx="9010800" cy="5467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у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асивые ур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деология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а страниц в проектах на Ruby on Rails всегда понятны, красивы, прекрасно понимаются поисковиками, прос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обная валидация входящи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ы и  правильность ввода адреса электронной почты, наличие пароля или необходимую минимальную длину лог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2920" y="395280"/>
            <a:ext cx="8867880" cy="575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грации и работа с базой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аша структура будет всегда в репозитории, любое изменение структуры будет задокументировано и привязано к определенному коммиту в репозитор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01680"/>
            <a:ext cx="903312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Github </a:t>
            </a:r>
            <a:br>
              <a:rPr sz="80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thub Ruby, Ruby On Rails, PHP, Twitter project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Query, Facebook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:\rails\images.jpg"/>
          <p:cNvPicPr/>
          <p:nvPr/>
        </p:nvPicPr>
        <p:blipFill>
          <a:blip r:embed="rId1"/>
          <a:stretch/>
        </p:blipFill>
        <p:spPr>
          <a:xfrm>
            <a:off x="3897360" y="4565520"/>
            <a:ext cx="2143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60360" y="611280"/>
            <a:ext cx="901080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использовании инструментов RoR исключены SQL инъекции и XSS ата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 входные параметры экранируется по умолчани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водимые переменные в шаблонах также экранируются, только если вы не указали обратной опци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I:\rails\images.jpg"/>
          <p:cNvPicPr/>
          <p:nvPr/>
        </p:nvPicPr>
        <p:blipFill>
          <a:blip r:embed="rId1"/>
          <a:stretch/>
        </p:blipFill>
        <p:spPr>
          <a:xfrm>
            <a:off x="3397320" y="70812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бые стороны:?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I:\rails\a074ee20304fc1cb7a08ea38de36f30d1408690806.jpg"/>
          <p:cNvPicPr/>
          <p:nvPr/>
        </p:nvPicPr>
        <p:blipFill>
          <a:blip r:embed="rId1"/>
          <a:stretch/>
        </p:blipFill>
        <p:spPr>
          <a:xfrm>
            <a:off x="539640" y="1779480"/>
            <a:ext cx="87868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506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</a:rPr>
              <a:t>Что это такое Ruby on Rails?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uby on Rails—полноценный фреймворк для построения веб-приложений, использующих базы данных, который основан на архитектуре Модель-Представление-Контроллер (Model-View-Controller, MV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Лицензия M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02920" y="922320"/>
            <a:ext cx="886788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языку выше начального уровня может оказаться непростым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нформационных ресурсов, посвящённых Ruby, явно недостаточ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I:\rails\websites-built-with-ruby-thumb.jpg"/>
          <p:cNvPicPr/>
          <p:nvPr/>
        </p:nvPicPr>
        <p:blipFill>
          <a:blip r:embed="rId1"/>
          <a:stretch/>
        </p:blipFill>
        <p:spPr>
          <a:xfrm>
            <a:off x="3325680" y="3708360"/>
            <a:ext cx="28576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Ruby менее производителен по сравнению со многими другими языками, применяемыми в веб-разработ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Ruby относительно медленно разрабатывается и развив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I:\rails\How-To-Deploy-Ruby-On-Rails.jpg"/>
          <p:cNvPicPr/>
          <p:nvPr/>
        </p:nvPicPr>
        <p:blipFill>
          <a:blip r:embed="rId1"/>
          <a:stretch/>
        </p:blipFill>
        <p:spPr>
          <a:xfrm>
            <a:off x="503280" y="1351080"/>
            <a:ext cx="88678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I:\rails\original.jpg"/>
          <p:cNvPicPr/>
          <p:nvPr/>
        </p:nvPicPr>
        <p:blipFill>
          <a:blip r:embed="rId1"/>
          <a:stretch/>
        </p:blipFill>
        <p:spPr>
          <a:xfrm>
            <a:off x="1468440" y="1494000"/>
            <a:ext cx="7151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2920" y="993600"/>
            <a:ext cx="8867880" cy="5158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авид Хейнемейер Хансс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I:\rails\d6d323aaecc61aee2bd0746b345ae490.jpg"/>
          <p:cNvPicPr/>
          <p:nvPr/>
        </p:nvPicPr>
        <p:blipFill>
          <a:blip r:embed="rId1"/>
          <a:stretch/>
        </p:blipFill>
        <p:spPr>
          <a:xfrm>
            <a:off x="3611520" y="2585880"/>
            <a:ext cx="287028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640" y="755280"/>
            <a:ext cx="894096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рхитектура R-приложений накладывает весьма серьезные ограничения на структурирование веб-приложений, но эти ограничения упрощают создание прилож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ель-Представление-Контроллер (Model-View-Controller, 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279440" y="1673280"/>
            <a:ext cx="654696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отвечает за поддержку состояния приложени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ъекты модели  осуществляют загрузку и сохранение данных в реляционной базе данных, а также реализуют бизнес-лог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дель – это сторож и хранитель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236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ПРЕДСТАВ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 отвечает за формирование пользовательского интерфейса, который обычно основан на данных мод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Ruby on Rails представление описывается при помощи шаблонов ERB. Они представляют собой файлы HTML с дополнительными включениями фрагментов кода Ruby (Embedded Ruby или ERb). Вывод, сгенерированный встроенным кодом Ruby, включается в текст шаблона, после чего получившаяся страница HTML возвращается пользователю. Кроме ERB возможно использовать ещё около 20 шаблонизаторов, в том числе Ha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4c19"/>
                </a:solidFill>
                <a:latin typeface="Arial"/>
              </a:rPr>
              <a:t>КОНТРОЛ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роллеры организуют работу приложения. Контроллер в Rails — это набор логики, запускаемой после получения HTTP-запроса сервером. Контроллер воспринимает ввод данных пользователем отвечает за вызов методов модели и запускает формирование пре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ьные ст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I:\rails\content_2.jpg"/>
          <p:cNvPicPr/>
          <p:nvPr/>
        </p:nvPicPr>
        <p:blipFill>
          <a:blip r:embed="rId1"/>
          <a:stretch/>
        </p:blipFill>
        <p:spPr>
          <a:xfrm>
            <a:off x="468360" y="1708200"/>
            <a:ext cx="8929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0T09:48:41Z</dcterms:created>
  <dc:creator>booka </dc:creator>
  <dc:description/>
  <dc:language>en-US</dc:language>
  <cp:lastModifiedBy>Corporate User</cp:lastModifiedBy>
  <dcterms:modified xsi:type="dcterms:W3CDTF">2015-12-16T20:12:51Z</dcterms:modified>
  <cp:revision>107</cp:revision>
  <dc:subject/>
  <dc:title>ТЕРМООБРАБОТКА</dc:title>
</cp:coreProperties>
</file>