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EA763-719B-40A2-87F6-0FE750D5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73942-85D1-4A97-8B18-7C425B5C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AD068-F477-4206-B424-064BBD25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5C35E-2833-440F-B22E-7436DFC6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D653-8594-4577-9153-E21E4F8D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A685-CC5B-43F3-A7B8-F687DEE8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6EEC-A452-4538-9D1E-B0A89A40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CB14-1E9A-44D6-B38D-C6815A83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12FA-BB15-4A82-B68E-EDB0F7D1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10A6-197D-4599-B429-E36BC960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E517-CFF2-4E01-85FE-03E3DB7B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31C33-9B52-4572-9FCA-901B1CF7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8442-3225-4E07-9613-59C62E1D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8E10-6AA0-47D2-9FB4-ECB03E8E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37AE-5D14-4EC9-B702-3C3630C9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8BF5-D864-4FF0-8144-2B83F945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4F8B-EF5E-48CA-924E-803C2263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4ACFC-749E-45C1-A8FF-82CB7E28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068B2-5C64-4FEE-BB4F-4B667835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A822D-F3E8-4304-B1C6-21497428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E4CF9-1A12-489A-96C8-DAC05A57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D4BC1-312D-4DDA-AEAE-B30CA883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1C465-D1E3-454B-B192-037ECC7A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963A0-DA04-4D52-ACDD-32C50B6B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D766-0261-4596-B4C2-35D16094DB62}" type="slidenum">
              <a:rPr b="0" lang="en-US" sz="1200" spc="-1" strike="noStrike">
                <a:solidFill>
                  <a:srgbClr val="6c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c070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d2d0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435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d2d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435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435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43508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d2d0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43508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d2d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6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6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c070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d2d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435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d2d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435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d2d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435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435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F4BF-1D82-4D62-BC5D-E3BC04093CC3}" type="slidenum">
              <a:rPr b="0" lang="en-US" sz="1200" spc="-1" strike="noStrike">
                <a:solidFill>
                  <a:srgbClr val="6c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d2d05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43508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d2d05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6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6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github.com/laravel/laravel/archive/master.zip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aravel.com/docs/controllers#resource-controllers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laravel.com/" TargetMode="External"/><Relationship Id="rId2" Type="http://schemas.openxmlformats.org/officeDocument/2006/relationships/hyperlink" Target="http://laravel.com/" TargetMode="External"/><Relationship Id="rId3" Type="http://schemas.openxmlformats.org/officeDocument/2006/relationships/hyperlink" Target="http://laravel.com/docs" TargetMode="External"/><Relationship Id="rId4" Type="http://schemas.openxmlformats.org/officeDocument/2006/relationships/hyperlink" Target="http://laravel.com/api/" TargetMode="External"/><Relationship Id="rId5" Type="http://schemas.openxmlformats.org/officeDocument/2006/relationships/hyperlink" Target="http://laravel.ru/docs/v4/" TargetMode="External"/><Relationship Id="rId6" Type="http://schemas.openxmlformats.org/officeDocument/2006/relationships/hyperlink" Target="http://packalyst.com/" TargetMode="External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ActiveRecord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76360" y="182880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LARAVEL PHP FRAMEWORK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941360"/>
            <a:ext cx="6019920" cy="10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c0000"/>
                </a:solidFill>
                <a:latin typeface="Arial"/>
              </a:rPr>
              <a:t>Выполнила Аль-Амри Раша.</a:t>
            </a: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Составители представлений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(англ. </a:t>
            </a:r>
            <a:r>
              <a:rPr b="0" i="1" lang="en" sz="2800" spc="-1" strike="noStrike">
                <a:solidFill>
                  <a:srgbClr val="6c0000"/>
                </a:solidFill>
                <a:latin typeface="Arial"/>
              </a:rPr>
              <a:t>view composers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) — блоки кода, которые выполняются при генерации представления (шаблона)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Инверсия управления 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(англ. </a:t>
            </a:r>
            <a:r>
              <a:rPr b="0" i="1" lang="en" sz="2800" spc="-1" strike="noStrike">
                <a:solidFill>
                  <a:srgbClr val="6c0000"/>
                </a:solidFill>
                <a:latin typeface="Arial"/>
              </a:rPr>
              <a:t>Inversion of Control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) — позволяет получать экземпляры объектов по принципу обратного управления. Также может использоваться для создания и получения объектов-одиночек (англ. </a:t>
            </a:r>
            <a:r>
              <a:rPr b="0" i="1" lang="en" sz="2800" spc="-1" strike="noStrike">
                <a:solidFill>
                  <a:srgbClr val="6c0000"/>
                </a:solidFill>
                <a:latin typeface="Arial"/>
              </a:rPr>
              <a:t>singleton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Возможности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534160" y="623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c0000"/>
                </a:solidFill>
                <a:latin typeface="Arial"/>
              </a:rPr>
              <a:t>Миграции — система управления версиями для баз данных. </a:t>
            </a:r>
            <a:r>
              <a:rPr b="0" lang="ru-RU" sz="2400" spc="-1" strike="noStrike">
                <a:solidFill>
                  <a:srgbClr val="6c0000"/>
                </a:solidFill>
                <a:latin typeface="Arial"/>
              </a:rPr>
              <a:t>Позволяет связывать изменения в коде приложения с изменениями, которые требуется внести в структуру БД, что упрощает развёртывание и обновление приложения.</a:t>
            </a:r>
            <a:endParaRPr b="0" lang="en-US" sz="24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c0000"/>
                </a:solidFill>
                <a:latin typeface="Arial"/>
              </a:rPr>
              <a:t>Модульное тестирование (юнит-тесты) — </a:t>
            </a:r>
            <a:r>
              <a:rPr b="0" lang="ru-RU" sz="2400" spc="-1" strike="noStrike">
                <a:solidFill>
                  <a:srgbClr val="6c0000"/>
                </a:solidFill>
                <a:latin typeface="Arial"/>
              </a:rPr>
              <a:t>играет очень большую роль в Laravel, который сам по себе содержит большое число тестов для предотвращения регрессий (ошибок вследствие обновления кода или исправления других ошибок).</a:t>
            </a:r>
            <a:endParaRPr b="0" lang="en-US" sz="24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c0000"/>
                </a:solidFill>
                <a:latin typeface="Arial"/>
              </a:rPr>
              <a:t>Страничный вывод (англ. </a:t>
            </a:r>
            <a:r>
              <a:rPr b="0" i="1" lang="en" sz="2400" spc="-1" strike="noStrike">
                <a:solidFill>
                  <a:srgbClr val="6c0000"/>
                </a:solidFill>
                <a:latin typeface="Arial"/>
              </a:rPr>
              <a:t>pagination</a:t>
            </a:r>
            <a:r>
              <a:rPr b="0" i="1" lang="ru-RU" sz="2400" spc="-1" strike="noStrike">
                <a:solidFill>
                  <a:srgbClr val="6c0000"/>
                </a:solidFill>
                <a:latin typeface="Arial"/>
              </a:rPr>
              <a:t>) — </a:t>
            </a:r>
            <a:r>
              <a:rPr b="0" lang="ru-RU" sz="2400" spc="-1" strike="noStrike">
                <a:solidFill>
                  <a:srgbClr val="6c0000"/>
                </a:solidFill>
                <a:latin typeface="Arial"/>
              </a:rPr>
              <a:t>упрощает генерацию страниц, заменяя различные способы решения этой задачи единым механизмом, встроенным в Laravel.</a:t>
            </a:r>
            <a:endParaRPr b="0" lang="en-US" sz="2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Возможности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534160" y="623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Environment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— в зависимости от домена, может подгружать те или иные конфигурационные файлы.</a:t>
            </a:r>
            <a:br>
              <a:rPr sz="2000"/>
            </a:b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Скажем, пропишем в файле paths.php  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Еще одна возможность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8388360" cy="1993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5084640"/>
            <a:ext cx="82296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Теперь, если мы зайдем с домена начинающегося на localhost или заканчивающегося на .dev. Фреймворк будет подгружать файлы конфигов с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папки application/config/local/* вместо application/config/*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Для установки Laravel нам понадобится composer (менеджер зависимостей для </a:t>
            </a: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PHP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Теперь вам необходимо скачать последнюю версию </a:t>
            </a:r>
            <a:r>
              <a:rPr b="0" lang="ru-RU" sz="2000" spc="-1" strike="noStrike" u="sng">
                <a:solidFill>
                  <a:srgbClr val="ff3b3b"/>
                </a:solidFill>
                <a:uFillTx/>
                <a:latin typeface="Arial"/>
                <a:hlinkClick r:id="rId1"/>
              </a:rPr>
              <a:t>laravel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. После чего в корне вашего laravel приложения (тот каталог куда вы установили фреймворк) введите команду: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php composer.phar install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Установка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55640" y="3213000"/>
            <a:ext cx="7993080" cy="1782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68360" y="551664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Готово, Фреймворк установлен </a:t>
            </a:r>
            <a:r>
              <a:rPr b="0" lang="en-US" sz="2000" spc="-1" strike="noStrike">
                <a:solidFill>
                  <a:srgbClr val="6c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6c0000"/>
                </a:solidFill>
                <a:latin typeface="Arial"/>
              </a:rPr>
              <a:t>Зайдя в каталог фреймворка мы увидим следующие каталоги:</a:t>
            </a:r>
            <a:endParaRPr b="0" lang="en-US" sz="22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c0000"/>
                </a:solidFill>
                <a:latin typeface="Arial"/>
              </a:rPr>
              <a:t>Директория </a:t>
            </a: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Laravel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/app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тут хранится вся логика приложения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/bootstrap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тут содержаться файлы инициализации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/public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это открытая часть нашего приложения, именно через index.php в этом каталоге будет работать приложение. Все файлы стилей/скриптов/картинки должны быть в этом каталоге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/vendor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тут содержаться файлы непосредственно самого фреймворка, файлы в этом каталоге трогать не нужно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6c0000"/>
                </a:solidFill>
                <a:latin typeface="Arial"/>
              </a:rPr>
              <a:t>Также в корне содержатся два файла</a:t>
            </a:r>
            <a:endParaRPr b="0" lang="en-US" sz="22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composer.json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это файл настроек для 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composer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. С помощью этого файла мы можем расширять фреймворк дополнительными компонентами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artisan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это командная составляющая laravel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Разберем основную директорию, с которой приходится чаще всего работать – директорию </a:t>
            </a: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app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. В этом каталоге находится вся логика нашего приложения, а также конфигурационные файлы, логи, миграции, кэш и т.д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c0000"/>
                </a:solidFill>
                <a:latin typeface="Arial"/>
              </a:rPr>
              <a:t>Директория </a:t>
            </a: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/app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2276640"/>
            <a:ext cx="82296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command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файлы команд приложения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config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в этом каталоге хранятся все файлы конфигурации нашего приложения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controller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тут находятся наши контроллеры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database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тут храниться файлы миграций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lang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языковые файлы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model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файлы моделей нашего приложения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start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файлы выполняемые при запуске приложения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storage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тут находятся файлы кэша, логи и т.д – данный каталог должен иметь права на запись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view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файлы вида нашего приложения. В общем наши шаблоны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Рассмотрим подробнее структуру 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Laravel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 на примере проекта «Inotravel». Это веб-система для поиска бесплатного жилья для путешественников. Функции системы: любой пользователь может воспользоваться поиском жилья, подать заявку на бронь жилья (но уже предварительно авторизуясь), создать свой профиль жилья для сдачи.</a:t>
            </a:r>
            <a:r>
              <a:rPr b="0" lang="ru-RU" sz="2400" spc="-1" strike="noStrike">
                <a:solidFill>
                  <a:srgbClr val="6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2835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Пример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6767640" cy="3808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68360" y="630792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1. Главная страница сайта «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Inotravel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»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2296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Структура директории /app проекта «Inotravel»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519960" cy="4510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124000" y="573336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2. Содержимое директории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/app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В директории /app/models были созданы модели: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68360" y="620640"/>
            <a:ext cx="8424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c0000"/>
                </a:solidFill>
                <a:latin typeface="Arial"/>
              </a:rPr>
              <a:t>Архитектура </a:t>
            </a:r>
            <a:r>
              <a:rPr b="1" i="1" lang="en" sz="3800" spc="-1" strike="noStrike">
                <a:solidFill>
                  <a:srgbClr val="6c0000"/>
                </a:solidFill>
                <a:latin typeface="Arial"/>
              </a:rPr>
              <a:t>Model View </a:t>
            </a:r>
            <a:r>
              <a:rPr b="1" i="1" lang="ru-RU" sz="3800" spc="-1" strike="noStrike">
                <a:solidFill>
                  <a:srgbClr val="6c0000"/>
                </a:solidFill>
                <a:latin typeface="Arial"/>
              </a:rPr>
              <a:t>С</a:t>
            </a:r>
            <a:r>
              <a:rPr b="1" i="1" lang="en" sz="3800" spc="-1" strike="noStrike">
                <a:solidFill>
                  <a:srgbClr val="6c0000"/>
                </a:solidFill>
                <a:latin typeface="Arial"/>
              </a:rPr>
              <a:t>ontroller</a:t>
            </a:r>
            <a:r>
              <a:rPr b="0" lang="ru-RU" sz="3800" spc="-1" strike="noStrike">
                <a:solidFill>
                  <a:srgbClr val="6c0000"/>
                </a:solidFill>
                <a:latin typeface="Arial"/>
              </a:rPr>
              <a:t> </a:t>
            </a:r>
            <a:endParaRPr b="0" lang="en-US" sz="38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488360" cy="3510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124000" y="573336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3. Содержимое директории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/app/models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94920" y="764640"/>
            <a:ext cx="77979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В директории /app/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view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 были созданы шаблоны (верстка):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4114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908000" y="5733360"/>
            <a:ext cx="49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 Содержимое директории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/app/views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4920" y="764640"/>
            <a:ext cx="77979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И самое интересное - в директории /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app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controllers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 были созданы контроллеры: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16720" cy="4238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763640" y="5733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 Содержимое директории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/app/controllers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77979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Рассмотрим их связь на примере авторизации функции «авторизация пользователя»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В директории /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public/j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 был создан файл 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main.js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6840720" cy="4210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835280" y="609228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6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Фрагмент javascript-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кода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файла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 main.js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9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2565360"/>
            <a:ext cx="7797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Файл 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route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php 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добавляет в регистр маршрутов все методы ресурса (</a:t>
            </a:r>
            <a:r>
              <a:rPr b="0" lang="ru-RU" sz="2000" spc="-1" strike="noStrike" u="sng">
                <a:solidFill>
                  <a:srgbClr val="ff3b3b"/>
                </a:solidFill>
                <a:uFillTx/>
                <a:latin typeface="Arial"/>
                <a:hlinkClick r:id="rId1"/>
              </a:rPr>
              <a:t>REST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35280" y="59493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Фрагмент php-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кода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файла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 routes.php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424720" cy="9208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340000" y="19155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Html-код 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кнопки «Войти»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8640720" cy="26589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619280" y="649044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Фрагмент php-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кода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файла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 UserController.php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0000" y="125280"/>
            <a:ext cx="7128000" cy="6383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6c0000"/>
                </a:solidFill>
                <a:latin typeface="Arial"/>
              </a:rPr>
              <a:t>А вот полезные и нужные ссылочки:</a:t>
            </a:r>
            <a:endParaRPr b="0" lang="en-US" sz="22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Laravel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3b3b"/>
                </a:solidFill>
                <a:uFillTx/>
                <a:latin typeface="Arial"/>
                <a:hlinkClick r:id="rId1"/>
              </a:rPr>
              <a:t>Официальный сайт </a:t>
            </a:r>
            <a:r>
              <a:rPr b="0" lang="ru-RU" sz="1800" spc="-1" strike="noStrike" u="sng">
                <a:solidFill>
                  <a:srgbClr val="ff3b3b"/>
                </a:solidFill>
                <a:uFillTx/>
                <a:latin typeface="Arial"/>
                <a:hlinkClick r:id="rId2"/>
              </a:rPr>
              <a:t>фреймворка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Laravel по‐русски — сайт нашего сообщества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Документация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На </a:t>
            </a:r>
            <a:r>
              <a:rPr b="0" lang="ru-RU" sz="1800" spc="-1" strike="noStrike" u="sng">
                <a:solidFill>
                  <a:srgbClr val="ff3b3b"/>
                </a:solidFill>
                <a:uFillTx/>
                <a:latin typeface="Arial"/>
                <a:hlinkClick r:id="rId3"/>
              </a:rPr>
              <a:t>английском языке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 + </a:t>
            </a:r>
            <a:r>
              <a:rPr b="0" lang="ru-RU" sz="1800" spc="-1" strike="noStrike" u="sng">
                <a:solidFill>
                  <a:srgbClr val="ff3b3b"/>
                </a:solidFill>
                <a:uFillTx/>
                <a:latin typeface="Arial"/>
                <a:hlinkClick r:id="rId4"/>
              </a:rPr>
              <a:t>API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На </a:t>
            </a:r>
            <a:r>
              <a:rPr b="0" lang="ru-RU" sz="1800" spc="-1" strike="noStrike" u="sng">
                <a:solidFill>
                  <a:srgbClr val="ff3b3b"/>
                </a:solidFill>
                <a:uFillTx/>
                <a:latin typeface="Arial"/>
                <a:hlinkClick r:id="rId5"/>
              </a:rPr>
              <a:t>русском языке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 Перевод соответствует версии 4.0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«Пакеты» (Packages) 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Для поиска пакетов для Laravel рекомендую воспользоваться замечательными сайтами: </a:t>
            </a:r>
            <a:r>
              <a:rPr b="0" lang="ru-RU" sz="1800" spc="-1" strike="noStrike" u="sng">
                <a:solidFill>
                  <a:srgbClr val="ff3b3b"/>
                </a:solidFill>
                <a:uFillTx/>
                <a:latin typeface="Arial"/>
                <a:hlinkClick r:id="rId6"/>
              </a:rPr>
              <a:t>Packalyst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 и</a:t>
            </a:r>
            <a:br>
              <a:rPr sz="1800"/>
            </a:b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Laravel Packages Registry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За новыми пакетами можно следить с помощью RSS и сообщений в twitter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И, конечно же, пакеты для Laravel можно и нужно искать на Packagist и Github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Хочу еще больше ссылок!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2835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Ссылки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03640" y="1773360"/>
            <a:ext cx="5643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ffffff"/>
                </a:solidFill>
                <a:latin typeface="Arial"/>
              </a:rPr>
              <a:t>Спасибо</a:t>
            </a:r>
            <a:br>
              <a:rPr sz="5600"/>
            </a:br>
            <a:r>
              <a:rPr b="0" lang="ru-RU" sz="56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7921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c0000"/>
                </a:solidFill>
                <a:latin typeface="Arial"/>
              </a:rPr>
              <a:t>Laravel</a:t>
            </a:r>
            <a:r>
              <a:rPr b="0" lang="ru-RU" sz="3200" spc="-1" strike="noStrike">
                <a:solidFill>
                  <a:srgbClr val="6c0000"/>
                </a:solidFill>
                <a:latin typeface="Arial"/>
              </a:rPr>
              <a:t> — бесплатный веб-фреймворк с открытым кодом, предназначенный для разработки с использованием архитектурной модели </a:t>
            </a: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MVC</a:t>
            </a:r>
            <a:r>
              <a:rPr b="0" lang="ru-RU" sz="3200" spc="-1" strike="noStrike">
                <a:solidFill>
                  <a:srgbClr val="6c0000"/>
                </a:solidFill>
                <a:latin typeface="Arial"/>
              </a:rPr>
              <a:t> (англ. </a:t>
            </a:r>
            <a:r>
              <a:rPr b="0" i="1" lang="en" sz="3200" spc="-1" strike="noStrike">
                <a:solidFill>
                  <a:srgbClr val="6c0000"/>
                </a:solidFill>
                <a:latin typeface="Arial"/>
              </a:rPr>
              <a:t>Model View Controller</a:t>
            </a:r>
            <a:r>
              <a:rPr b="0" lang="ru-RU" sz="3200" spc="-1" strike="noStrike">
                <a:solidFill>
                  <a:srgbClr val="6c0000"/>
                </a:solidFill>
                <a:latin typeface="Arial"/>
              </a:rPr>
              <a:t> — модель-представление-контроллер). Laravel выпущен под лицензией </a:t>
            </a: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MIT</a:t>
            </a:r>
            <a:r>
              <a:rPr b="0" lang="ru-RU" sz="3200" spc="-1" strike="noStrike">
                <a:solidFill>
                  <a:srgbClr val="6c0000"/>
                </a:solidFill>
                <a:latin typeface="Arial"/>
              </a:rPr>
              <a:t>. Исходный код проекта размещается на GitHub.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532720" y="6257160"/>
            <a:ext cx="3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49068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c0000"/>
                </a:solidFill>
                <a:latin typeface="Arial"/>
              </a:rPr>
              <a:t>История </a:t>
            </a: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Laravel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064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 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был создан </a:t>
            </a:r>
            <a:r>
              <a:rPr b="1" lang="ru-RU" sz="3000" spc="-1" strike="noStrike">
                <a:solidFill>
                  <a:srgbClr val="6c0000"/>
                </a:solidFill>
                <a:latin typeface="Arial"/>
              </a:rPr>
              <a:t>Taylor Otwell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 как более функциональная альтернатива </a:t>
            </a:r>
            <a:r>
              <a:rPr b="0" lang="en-US" sz="3000" spc="-1" strike="noStrike">
                <a:solidFill>
                  <a:srgbClr val="6c0000"/>
                </a:solidFill>
                <a:latin typeface="Arial"/>
              </a:rPr>
              <a:t>CodeIgniter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, который не предусматривал различные дополнительные функции. Первый бета-релиз</a:t>
            </a:r>
            <a:r>
              <a:rPr b="0" lang="ru-RU" sz="3000" spc="-1" strike="noStrike">
                <a:solidFill>
                  <a:srgbClr val="c43508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</a:t>
            </a:r>
            <a:r>
              <a:rPr b="0" lang="ru-RU" sz="3000" spc="-1" strike="noStrike">
                <a:solidFill>
                  <a:srgbClr val="c43508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стал доступен 9 июня 2011 года, а 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 1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 вышел в этом же месяце.</a:t>
            </a: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 1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 включает в себя встроенную поддержку для аутентификации, локализации, модели, представления, сессий, маршрутизации и других механизмов.</a:t>
            </a: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532720" y="6236280"/>
            <a:ext cx="4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49068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c0000"/>
                </a:solidFill>
                <a:latin typeface="Arial"/>
              </a:rPr>
              <a:t>История </a:t>
            </a: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Laravel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848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 2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 был выпущен в сентябре 2011 года.</a:t>
            </a: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Основные новые функции включают в себя поддержку контроллеров, которые сделали фреймворк полностью </a:t>
            </a:r>
            <a:r>
              <a:rPr b="0" lang="en-US" sz="3000" spc="-1" strike="noStrike">
                <a:solidFill>
                  <a:srgbClr val="6c0000"/>
                </a:solidFill>
                <a:latin typeface="Arial"/>
              </a:rPr>
              <a:t>MVC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-совместимым, встроенную поддержку для инверсии управления, и систему шаблонов </a:t>
            </a:r>
            <a:r>
              <a:rPr b="1" lang="ru-RU" sz="3000" spc="-1" strike="noStrike">
                <a:solidFill>
                  <a:srgbClr val="6c0000"/>
                </a:solidFill>
                <a:latin typeface="Arial"/>
              </a:rPr>
              <a:t>Blade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6c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532720" y="6236280"/>
            <a:ext cx="4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49068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c0000"/>
                </a:solidFill>
                <a:latin typeface="Arial"/>
              </a:rPr>
              <a:t>История </a:t>
            </a: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Laravel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084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 3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 был выпущен в феврале 2012 года с набором новых функций, включая интерфейс командной строки (CLI) под именем "Artisan", встроенную поддержку нескольких систем управления базами данных, миграции баз данных в виде контроля версий, обработку событий. Выпуск 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 3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 получил значительное увеличение числа пользователей, что повлияло на его популярность.</a:t>
            </a: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532720" y="6236280"/>
            <a:ext cx="4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6000" y="457200"/>
            <a:ext cx="75708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Возможности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6c0000"/>
                </a:solidFill>
                <a:latin typeface="Arial"/>
              </a:rPr>
              <a:t>Ключевые особенности, лежащие в основе архитектуры Laravel: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Пакеты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(англ. </a:t>
            </a:r>
            <a:r>
              <a:rPr b="0" i="1" lang="en" sz="2800" spc="-1" strike="noStrike">
                <a:solidFill>
                  <a:srgbClr val="6c0000"/>
                </a:solidFill>
                <a:latin typeface="Arial"/>
              </a:rPr>
              <a:t>packages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) — позволяют создавать и подключать модули в формате </a:t>
            </a:r>
            <a:r>
              <a:rPr b="0" lang="en-US" sz="2800" spc="-1" strike="noStrike">
                <a:solidFill>
                  <a:srgbClr val="6c0000"/>
                </a:solidFill>
                <a:latin typeface="Arial"/>
              </a:rPr>
              <a:t>Composer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к приложению на Laravel. Многие дополнительные возможности уже доступны в виде таких модулей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Eloquent </a:t>
            </a:r>
            <a:r>
              <a:rPr b="0" i="1" lang="en-US" sz="2800" spc="-1" strike="noStrike">
                <a:solidFill>
                  <a:srgbClr val="6c0000"/>
                </a:solidFill>
                <a:latin typeface="Arial"/>
              </a:rPr>
              <a:t>ORM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— реализация шаблона проектирования </a:t>
            </a:r>
            <a:r>
              <a:rPr b="0" lang="ru-RU" sz="2800" spc="-1" strike="noStrike" u="sng">
                <a:solidFill>
                  <a:srgbClr val="ff3b3b"/>
                </a:solidFill>
                <a:uFillTx/>
                <a:latin typeface="Arial"/>
                <a:hlinkClick r:id="rId1"/>
              </a:rPr>
              <a:t>ActiveRecord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на PHP. Позволяет строго определить отношения между объектами базы данных. Стандартный для Laravel построитель запросов Fluent поддерживается ядром Eloquent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534160" y="623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457200"/>
            <a:ext cx="75708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Возможности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Логика приложения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— часть разрабатываемого приложения, объявленная либо при помощи контроллеров, либо маршрутов (функций-замыканий). 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Обратная маршрутизация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связывает между собой генерируемые приложением ссылки и маршруты, позволяя изменять последние с автоматическим обновлением связанных ссылок. При создании ссылок с помощью именованных маршрутов Laravel автоматически генерирует конечные </a:t>
            </a:r>
            <a:r>
              <a:rPr b="0" lang="en-US" sz="2800" spc="-1" strike="noStrike">
                <a:solidFill>
                  <a:srgbClr val="6c0000"/>
                </a:solidFill>
                <a:latin typeface="Arial"/>
              </a:rPr>
              <a:t>URL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534160" y="623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c0000"/>
                </a:solidFill>
                <a:latin typeface="Arial"/>
              </a:rPr>
              <a:t>REST</a:t>
            </a: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-контроллеры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— дополнительный слой для разделения логики обработки GET- и POST-запросов </a:t>
            </a:r>
            <a:r>
              <a:rPr b="0" lang="en-US" sz="2800" spc="-1" strike="noStrike">
                <a:solidFill>
                  <a:srgbClr val="6c0000"/>
                </a:solidFill>
                <a:latin typeface="Arial"/>
              </a:rPr>
              <a:t>HTTP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Автозагрузка классов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— механизм автоматической загрузки классов </a:t>
            </a:r>
            <a:r>
              <a:rPr b="0" lang="en-US" sz="2800" spc="-1" strike="noStrike">
                <a:solidFill>
                  <a:srgbClr val="6c0000"/>
                </a:solidFill>
                <a:latin typeface="Arial"/>
              </a:rPr>
              <a:t>PHP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без необходимости подключать файлы их определений в </a:t>
            </a: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include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. Загрузка по требованию предотвращает загрузку ненужных компонентов; загружаются только те из них, которые действительно используются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Возможности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534160" y="623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14:19:26Z</dcterms:created>
  <dc:creator>student</dc:creator>
  <dc:description/>
  <dc:language>en-US</dc:language>
  <cp:lastModifiedBy>student</cp:lastModifiedBy>
  <dcterms:modified xsi:type="dcterms:W3CDTF">2015-12-16T21:22:15Z</dcterms:modified>
  <cp:revision>9</cp:revision>
  <dc:subject/>
  <dc:title>Слайд 1</dc:title>
</cp:coreProperties>
</file>