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8D75C-29F2-46CE-B2A2-BF3FB3A50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E628-E49B-468A-9750-4927825DA9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FB4D2-AA04-49DD-BD9F-19B9351148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7A1E4-BFB1-47C5-8E05-EF2D22A120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EE7D5-EB82-4957-B267-BC11053DE9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1EB9A-F98A-433D-B758-7AE52DCD2C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114-F313-4F85-9845-DB18B51B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8EC-AE6B-4649-86E9-EFEFD3C9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D2D-84E3-4639-8BDC-43345759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FA1-40A1-4C44-9C76-866A8D51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257-C67B-4195-99EE-CD224D2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365-B111-46C4-B96A-BD972B4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1BB-E8BF-4253-9932-1EEBE6FC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223-107B-4438-98C9-EFC44E4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66E-0646-4E72-9267-4EBB25C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FC8-75A4-45A8-8E83-5C1A82F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BF2-C666-4077-A148-87E8952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F0D-B2F9-4D6A-8B19-E765647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E82C7B-6500-453B-9E99-5C62688DB4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Ruby on Rai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88585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2920" y="636480"/>
            <a:ext cx="886788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Скорость разрабо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сновное преимуще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ость разработки проектов на RoR увеличивается на 30–40 процентов по отношению к любому другому языку программирования или фреймвор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альный набором готовых реше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I:\rails\content_samolet.jpg"/>
          <p:cNvPicPr/>
          <p:nvPr/>
        </p:nvPicPr>
        <p:blipFill>
          <a:blip r:embed="rId1"/>
          <a:stretch/>
        </p:blipFill>
        <p:spPr>
          <a:xfrm>
            <a:off x="3397320" y="1279440"/>
            <a:ext cx="2657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280" y="565200"/>
            <a:ext cx="91551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R идеология предполагает изначальное использование методов BDD (Behavior Driven Development) или TDD (Test Driven Development). Это ускоряет переход проекта от стадии «программа написана» к стадии «программа работает без ошибо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:\rails\content_5.jpg"/>
          <p:cNvPicPr/>
          <p:nvPr/>
        </p:nvPicPr>
        <p:blipFill>
          <a:blip r:embed="rId1"/>
          <a:stretch/>
        </p:blipFill>
        <p:spPr>
          <a:xfrm>
            <a:off x="3754440" y="851040"/>
            <a:ext cx="27766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1640" y="971280"/>
            <a:ext cx="8939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ш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товые и штатные ре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ние целых страниц или же блоков кода. Кеширование результаты запросов и ActiveRecord–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ть можно как при помощи memcached или redis, так и другими сред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различных языков на сайте как изначально, так и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блоны для разных языков, конфигурационные файлы с переводами тер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у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ивые у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ология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а страниц в проектах на Ruby on Rails всегда понятны, красивы, прекрасно понимаются поисковиками, пр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обная валидация входя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и  правильность ввода адреса электронной почты, наличие пароля или необходимую минимальную длину ло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2920" y="395280"/>
            <a:ext cx="8867880" cy="5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грации и работа с базой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а структура будет всегда в репозитории, любое изменение структуры будет задокументировано и привязано к определенному коммиту в репоз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903312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ithub </a:t>
            </a: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hub Ruby, Ruby On Rails, PHP, Twitter project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Query, Facebook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rails\images.jpg"/>
          <p:cNvPicPr/>
          <p:nvPr/>
        </p:nvPicPr>
        <p:blipFill>
          <a:blip r:embed="rId1"/>
          <a:stretch/>
        </p:blipFill>
        <p:spPr>
          <a:xfrm>
            <a:off x="3897360" y="4565520"/>
            <a:ext cx="2143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инструментов RoR исключены SQL инъекции и XSS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входные параметры экранируется по умолч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имые переменные в шаблонах также экранируются, только если вы не указали обратной оп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:\rails\images.jpg"/>
          <p:cNvPicPr/>
          <p:nvPr/>
        </p:nvPicPr>
        <p:blipFill>
          <a:blip r:embed="rId1"/>
          <a:stretch/>
        </p:blipFill>
        <p:spPr>
          <a:xfrm>
            <a:off x="3397320" y="7081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бые стороны: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I:\rails\a074ee20304fc1cb7a08ea38de36f30d1408690806.jpg"/>
          <p:cNvPicPr/>
          <p:nvPr/>
        </p:nvPicPr>
        <p:blipFill>
          <a:blip r:embed="rId1"/>
          <a:stretch/>
        </p:blipFill>
        <p:spPr>
          <a:xfrm>
            <a:off x="539640" y="1779480"/>
            <a:ext cx="8786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50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Что это такое Ruby on Rails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by on Rails—полноценный фреймворк для построения веб-приложений, использующих базы данных, который основан на архитектуре Модель-Представление-Контроллер (Model-View-Controller, MV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цензия 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2920" y="922320"/>
            <a:ext cx="88678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языку выше начального уровня может оказаться непросты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нформационных ресурсов, посвящённых Ruby, явно недостато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I:\rails\websites-built-with-ruby-thumb.jpg"/>
          <p:cNvPicPr/>
          <p:nvPr/>
        </p:nvPicPr>
        <p:blipFill>
          <a:blip r:embed="rId1"/>
          <a:stretch/>
        </p:blipFill>
        <p:spPr>
          <a:xfrm>
            <a:off x="3325680" y="3708360"/>
            <a:ext cx="2857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Ruby менее производителен по сравнению со многими другими языками, применяемыми в веб-разрабо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Ruby относительно медленно разрабатывается и разв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I:\rails\How-To-Deploy-Ruby-On-Rails.jpg"/>
          <p:cNvPicPr/>
          <p:nvPr/>
        </p:nvPicPr>
        <p:blipFill>
          <a:blip r:embed="rId1"/>
          <a:stretch/>
        </p:blipFill>
        <p:spPr>
          <a:xfrm>
            <a:off x="503280" y="1351080"/>
            <a:ext cx="8867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I:\rails\original.jpg"/>
          <p:cNvPicPr/>
          <p:nvPr/>
        </p:nvPicPr>
        <p:blipFill>
          <a:blip r:embed="rId1"/>
          <a:stretch/>
        </p:blipFill>
        <p:spPr>
          <a:xfrm>
            <a:off x="1468440" y="1494000"/>
            <a:ext cx="7151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2920" y="993600"/>
            <a:ext cx="8867880" cy="51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ид Хейнемейер Ханс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I:\rails\d6d323aaecc61aee2bd0746b345ae490.jpg"/>
          <p:cNvPicPr/>
          <p:nvPr/>
        </p:nvPicPr>
        <p:blipFill>
          <a:blip r:embed="rId1"/>
          <a:stretch/>
        </p:blipFill>
        <p:spPr>
          <a:xfrm>
            <a:off x="3611520" y="2585880"/>
            <a:ext cx="2870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640" y="755280"/>
            <a:ext cx="894096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 R-приложений накладывает весьма серьезные ограничения на структурирование веб-приложений, но эти ограничения упрощают создание прилож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ель-Представление-Контроллер (Model-View-Controller, 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79440" y="1673280"/>
            <a:ext cx="6546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отвечает за поддержку состояния прилож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дели  осуществляют загрузку и сохранение данных в реляционной базе данных, а также реализуют бизнес-лог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– это сторож и хранитель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ПРЕДСТ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твечает за формирование пользовательского интерфейса, который обычно основан на данных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Ruby on Rails представление описывается при помощи шаблонов ERB. Они представляют собой файлы HTML с дополнительными включениями фрагментов кода Ruby (Embedded Ruby или ERb). Вывод, сгенерированный встроенным кодом Ruby, включается в текст шаблона, после чего получившаяся страница HTML возвращается пользователю. Кроме ERB возможно использовать ещё около 20 шаблонизаторов, в том числе Ha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КОНТРО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роллеры организуют работу приложения. Контроллер в Rails — это набор логики, запускаемой после получения HTTP-запроса сервером. Контроллер воспринимает ввод данных пользователем отвечает за вызов методов модели и запускает формировани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ьные ст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:\rails\content_2.jpg"/>
          <p:cNvPicPr/>
          <p:nvPr/>
        </p:nvPicPr>
        <p:blipFill>
          <a:blip r:embed="rId1"/>
          <a:stretch/>
        </p:blipFill>
        <p:spPr>
          <a:xfrm>
            <a:off x="468360" y="1708200"/>
            <a:ext cx="8929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0T09:48:41Z</dcterms:created>
  <dc:creator>booka </dc:creator>
  <dc:description/>
  <dc:language>en-US</dc:language>
  <cp:lastModifiedBy>Corporate User</cp:lastModifiedBy>
  <dcterms:modified xsi:type="dcterms:W3CDTF">2015-12-16T20:12:51Z</dcterms:modified>
  <cp:revision>107</cp:revision>
  <dc:subject/>
  <dc:title>ТЕРМООБРАБОТКА</dc:title>
</cp:coreProperties>
</file>