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B427-C55E-46B2-89F2-518B9E5A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D44B-F31E-4227-A2B0-27F4C8C6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D6A3-7EFD-48A3-856A-21FE67B4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C374-12D8-45B5-9775-057DE0FC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3CAD-8915-4E91-B8AD-18D5C0FE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C046-ECF6-4462-A5D8-1298C9FC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6EC7-FAA4-44C9-A7B9-667A9F22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94C-CA6D-46A7-A2B9-BFFFAFBA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7D4-E078-434C-9053-664F7E9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6F01-886A-48A2-A32E-D1AA80A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1A9F-B5CB-4210-893C-6734A45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138D-96AD-42CA-BE56-57FC8AE6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F188-AF12-4201-8C4B-F2492A2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695F-9EC3-4346-B77A-0243C60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EA7-8073-4089-9ED7-150F49E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2139-DE85-47AF-AE6A-CF18933F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5129-D0C5-4103-BA28-78B2650D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A0C2-FF1A-4C2A-A350-EC6BE957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6038-478D-403A-AA5C-64AEA737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E0D8-9AD5-4223-B9E1-AA76E67C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5C5C-7C5E-4C98-86CD-0640AC9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B504-4327-4D26-8E0F-6758BC1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298E-BCC8-4706-BF2E-D1307594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E4CD-58B0-4001-825A-EC0A36C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8EAE-BC2D-4F9F-A762-0B4D8E942BED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d2d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43508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4B28-FF19-48D7-923A-99862CA2DF00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ithub.com/laravel/laravel/archive/master.zi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aravel.com/docs/controllers#resource-controllers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aravel.com/" TargetMode="External"/><Relationship Id="rId2" Type="http://schemas.openxmlformats.org/officeDocument/2006/relationships/hyperlink" Target="http://laravel.com/" TargetMode="External"/><Relationship Id="rId3" Type="http://schemas.openxmlformats.org/officeDocument/2006/relationships/hyperlink" Target="http://laravel.com/docs" TargetMode="External"/><Relationship Id="rId4" Type="http://schemas.openxmlformats.org/officeDocument/2006/relationships/hyperlink" Target="http://laravel.com/api/" TargetMode="External"/><Relationship Id="rId5" Type="http://schemas.openxmlformats.org/officeDocument/2006/relationships/hyperlink" Target="http://laravel.ru/docs/v4/" TargetMode="External"/><Relationship Id="rId6" Type="http://schemas.openxmlformats.org/officeDocument/2006/relationships/hyperlink" Target="http://packalyst.com/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ActiveRecord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182880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RAVEL PHP FRAMEWOR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941360"/>
            <a:ext cx="601992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c0000"/>
                </a:solidFill>
                <a:latin typeface="Arial"/>
              </a:rPr>
              <a:t>Выполнила Аль-Амри Раша.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Составители представлений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view composer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блоки кода, которые выполняются при генерации представления (шаблона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Инверсия управления 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Inversion of Contro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ет получать экземпляры объектов по принципу обратного управления. Также может использоваться для создания и получения объектов-одиночек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singleton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играции — система управления версиями для баз данных.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Позволяет связывать изменения в коде приложения с изменениями, которые требуется внести в структуру БД, что упрощает развёртывание и обновление приложения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одульное тестирование (юнит-тесты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играет очень большую роль в Laravel, который сам по себе содержит большое число тестов для предотвращения регрессий (ошибок вследствие обновления кода или исправления других ошибок)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Страничный вывод (англ. </a:t>
            </a:r>
            <a:r>
              <a:rPr b="0" i="1" lang="en" sz="2400" spc="-1" strike="noStrike">
                <a:solidFill>
                  <a:srgbClr val="6c0000"/>
                </a:solidFill>
                <a:latin typeface="Arial"/>
              </a:rPr>
              <a:t>pagination</a:t>
            </a: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упрощает генерацию страниц, заменяя различные способы решения этой задачи единым механизмом, встроенным в Laravel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Environment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— в зависимости от домена, может подгружать те или иные конфигурационные файлы.</a:t>
            </a:r>
            <a:br>
              <a:rPr sz="2000"/>
            </a:b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кажем, пропишем в файле paths.php 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Еще одна возможность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388360" cy="1993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, если мы зайдем с домена начинающегося на localhost или заканчивающегося на .dev. Фреймворк будет подгружать файлы конфигов с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папки application/config/local/* вместо application/config/*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ля установки Laravel нам понадобится composer (менеджер зависимостей для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 вам необходимо скачать последнюю версию 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После чего в корне вашего laravel приложения (тот каталог куда вы установили фреймворк) введите команду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 composer.phar instal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Установка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993080" cy="178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5516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Готово, Фреймворк установлен </a:t>
            </a:r>
            <a:r>
              <a:rPr b="0" lang="en-US" sz="2000" spc="-1" strike="noStrike">
                <a:solidFill>
                  <a:srgbClr val="6c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Зайдя в каталог фреймворка мы увидим следующие каталог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ся вся логика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bootstra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инициализации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public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открытая часть нашего приложения, именно через index.php в этом каталоге будет работать приложение. Все файлы стилей/скриптов/картинки должны быть в этом каталоге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vendo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непосредственно самого фреймворка, файлы в этом каталоге трогать не нужно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Также в корне содержатся два файла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poser.jso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файл настроек для 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С помощью этого файла мы можем расширять фреймворк дополнительными компонентами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rtisa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командная составляющая laravel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зберем основную директорию, с которой приходится чаще всего работать – директорию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В этом каталоге находится вся логика нашего приложения, а также конфигурационные файлы, логи, миграции, кэш и т.д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/app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76640"/>
            <a:ext cx="82296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mand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команд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fi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в этом каталоге хранятся все файлы конфигурации нашего приложения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наши контроллер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databas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ься файлы миграций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lan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языковые файл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model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моделей нашего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ar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ыполняемые при запуске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orag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файлы кэша, логи и т.д – данный каталог должен иметь права на запись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ида нашего приложения. В общем наши шаблоны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подробнее структуру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на примере проекта «Inotravel». Это веб-система для поиска бесплатного жилья для путешественников. Функции системы: любой пользователь может воспользоваться поиском жилья, подать заявку на бронь жилья (но уже предварительно авторизуясь), создать свой профиль жилья для сдачи.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6767640" cy="3808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68360" y="630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1. Главная страница сайта «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Inotravel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труктура директории /app проекта «Inotravel»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519960" cy="4510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24000" y="573336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2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models были созданы модели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Архитектура 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Model View </a:t>
            </a:r>
            <a:r>
              <a:rPr b="1" i="1" lang="ru-RU" sz="3800" spc="-1" strike="noStrike">
                <a:solidFill>
                  <a:srgbClr val="6c0000"/>
                </a:solidFill>
                <a:latin typeface="Arial"/>
              </a:rPr>
              <a:t>С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ontroller</a:t>
            </a: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 </a:t>
            </a:r>
            <a:endParaRPr b="0" lang="en-US" sz="3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88360" cy="351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4000" y="5733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3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model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и созданы шаблоны (верстка)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8000" y="573336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view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 самое интересное - в директории 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были созданы контроллеры: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423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3640" y="57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7979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их связь на примере авторизации функции «авторизация пользователя»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ublic/j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 создан 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main.js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840720" cy="421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35280" y="609228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6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javascript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main.j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7797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route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hp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бавляет в регистр маршрутов все методы ресурса (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RES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594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routes.php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92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40000" y="19155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Html-код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нопки «Войти»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8640720" cy="265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19280" y="64904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UserController.ph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125280"/>
            <a:ext cx="7128000" cy="638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А вот полезные и нужные ссылочк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Официальный сайт 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2"/>
              </a:rPr>
              <a:t>фреймворка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по‐русски — сайт нашего сообщества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кументац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3"/>
              </a:rPr>
              <a:t>англий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+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4"/>
              </a:rPr>
              <a:t>API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5"/>
              </a:rPr>
              <a:t>рус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Перевод соответствует версии 4.0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«Пакеты» (Packages)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Для поиска пакетов для Laravel рекомендую воспользоваться замечательными сайтами: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6"/>
              </a:rPr>
              <a:t>Packalyst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и</a:t>
            </a:r>
            <a:br>
              <a:rPr sz="1800"/>
            </a:b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Packages Registry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За новыми пакетами можно следить с помощью RSS и сообщений в twitter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, конечно же, пакеты для Laravel можно и нужно искать на Packagist и Github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Хочу еще больше ссылок!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640" y="1773360"/>
            <a:ext cx="564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Спасибо</a:t>
            </a:r>
            <a:br>
              <a:rPr sz="5600"/>
            </a:b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бесплатный веб-фреймворк с открытым кодом, предназначенный для разработки с использованием архитектурной модели 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3200" spc="-1" strike="noStrike">
                <a:solidFill>
                  <a:srgbClr val="6c0000"/>
                </a:solidFill>
                <a:latin typeface="Arial"/>
              </a:rPr>
              <a:t>Model View Controller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модель-представление-контроллер). Laravel выпущен под лицензией 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IT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. Исходный код проекта размещается на GitHub.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2720" y="625716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был создан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Taylor Otwell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как более функциональная альтернатива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CodeIgniter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, который не предусматривал различные дополнительные функции. Первый бета-релиз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стал доступен 9 июня 2011 года, а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ышел в этом же месяце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ключает в себя встроенную поддержку для аутентификации, локализации, модели, представления, сессий, маршрутизации и других механизмов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2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сентябре 2011 года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Основные новые функции включают в себя поддержку контроллеров, которые сделали фреймворк полностью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-совместимым, встроенную поддержку для инверсии управления, и систему шаблонов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Blade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84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феврале 2012 года с набором новых функций, включая интерфейс командной строки (CLI) под именем "Artisan", встроенную поддержку нескольких систем управления базами данных, миграции баз данных в виде контроля версий, обработку событий. Выпуск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получил значительное увеличение числа пользователей, что повлияло на его популярность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c0000"/>
                </a:solidFill>
                <a:latin typeface="Arial"/>
              </a:rPr>
              <a:t>Ключевые особенности, лежащие в основе архитектуры Laravel: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Пакет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package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ют создавать и подключать модули в формат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к приложению на Laravel. Многие дополнительные возможности уже доступны в виде таких модулей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Eloquent </a:t>
            </a: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ORM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реализация шаблона проектирования </a:t>
            </a:r>
            <a:r>
              <a:rPr b="0" lang="ru-RU" sz="2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ActiveRecord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на PHP. Позволяет строго определить отношения между объектами базы данных. Стандартный для Laravel построитель запросов Fluent поддерживается ядром Eloquent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Логика приложен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часть разрабатываемого приложения, объявленная либо при помощи контроллеров, либо маршрутов (функций-замыканий). 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Обратная маршрутизац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связывает между собой генерируемые приложением ссылки и маршруты, позволяя изменять последние с автоматическим обновлением связанных ссылок. При создании ссылок с помощью именованных маршрутов Laravel автоматически генерирует конечны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REST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-контроллер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дополнительный слой для разделения логики обработки GET- и POST-запро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Автозагрузка классов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механизм автоматической загрузки клас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без необходимости подключать файлы их определений в 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include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 Загрузка по требованию предотвращает загрузку ненужных компонентов; загружаются только те из них, которые действительно используются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4:19:26Z</dcterms:created>
  <dc:creator>student</dc:creator>
  <dc:description/>
  <dc:language>en-US</dc:language>
  <cp:lastModifiedBy>student</cp:lastModifiedBy>
  <dcterms:modified xsi:type="dcterms:W3CDTF">2015-12-16T21:22:15Z</dcterms:modified>
  <cp:revision>9</cp:revision>
  <dc:subject/>
  <dc:title>Слайд 1</dc:title>
</cp:coreProperties>
</file>