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E384-8DC3-449F-B129-5BDDEFA33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F3C58-55ED-4AE4-AC9C-2365ACE0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892C0-1D9C-48B4-B8B7-9948189A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8F73-88AD-4A17-9113-8FB9E17B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3DF7-07A1-41A9-B327-D5C354FA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B624-D27D-44CC-91C4-0426CE28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ACA7-9917-47B5-8657-FF4C54B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99CB-7181-4428-BE77-4665413D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5FC5-7FB0-40EE-A506-CBF65F87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634A-CE12-48F9-969C-52FE560B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B04E-463A-4492-B1EC-C01D066D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00DB-74D6-4D90-81EC-8876FFEF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5A7C-CDA7-4B70-BF24-99356D49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D2F11-5A34-4765-B20B-37FD28A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AEDC-6584-4F82-8327-0C6A19D7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0111-7ED5-41B4-965A-6EA61A64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5EE-F374-4E2C-BBAB-B437F12E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A4280-8B00-4F4F-821A-15476818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6FE26-642D-478B-84B5-44087479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BDCE-B088-4E5A-81B3-CE4DA708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33AC-8321-4DBE-A4F2-8841E7D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F84E-3452-4B6D-9ADB-4DA7047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5993-3453-4AC1-B77B-996CD84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E7E2-DE27-4D7B-B1B0-B46FBAF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9C25-EA07-423F-BBF9-81800DC170C0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d2d0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435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43508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d2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c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d2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435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c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c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c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E6B9-39FB-464F-8F2A-16E8784D28DA}" type="slidenum">
              <a:rPr b="0" lang="en-US" sz="1200" spc="-1" strike="noStrike">
                <a:solidFill>
                  <a:srgbClr val="6c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c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d2d0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43508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d2d0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6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github.com/laravel/laravel/archive/master.zi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aravel.com/docs/controllers#resource-controllers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aravel.com/" TargetMode="External"/><Relationship Id="rId2" Type="http://schemas.openxmlformats.org/officeDocument/2006/relationships/hyperlink" Target="http://laravel.com/" TargetMode="External"/><Relationship Id="rId3" Type="http://schemas.openxmlformats.org/officeDocument/2006/relationships/hyperlink" Target="http://laravel.com/docs" TargetMode="External"/><Relationship Id="rId4" Type="http://schemas.openxmlformats.org/officeDocument/2006/relationships/hyperlink" Target="http://laravel.com/api/" TargetMode="External"/><Relationship Id="rId5" Type="http://schemas.openxmlformats.org/officeDocument/2006/relationships/hyperlink" Target="http://laravel.ru/docs/v4/" TargetMode="External"/><Relationship Id="rId6" Type="http://schemas.openxmlformats.org/officeDocument/2006/relationships/hyperlink" Target="http://packalyst.com/" TargetMode="External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ActiveRecord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828800"/>
            <a:ext cx="5715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RAVEL PHP FRAMEWOR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941360"/>
            <a:ext cx="6019920" cy="10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c0000"/>
                </a:solidFill>
                <a:latin typeface="Arial"/>
              </a:rPr>
              <a:t>Выполнила Аль-Амри Раша.</a:t>
            </a: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Составители представлений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view composer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блоки кода, которые выполняются при генерации представления (шаблона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Инверсия управления 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Inversion of Contro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ет получать экземпляры объектов по принципу обратного управления. Также может использоваться для создания и получения объектов-одиночек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singleton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играции — система управления версиями для баз данных.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Позволяет связывать изменения в коде приложения с изменениями, которые требуется внести в структуру БД, что упрощает развёртывание и обновление приложения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Модульное тестирование (юнит-тесты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играет очень большую роль в Laravel, который сам по себе содержит большое число тестов для предотвращения регрессий (ошибок вследствие обновления кода или исправления других ошибок)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Страничный вывод (англ. </a:t>
            </a:r>
            <a:r>
              <a:rPr b="0" i="1" lang="en" sz="2400" spc="-1" strike="noStrike">
                <a:solidFill>
                  <a:srgbClr val="6c0000"/>
                </a:solidFill>
                <a:latin typeface="Arial"/>
              </a:rPr>
              <a:t>pagination</a:t>
            </a:r>
            <a:r>
              <a:rPr b="0" i="1" lang="ru-RU" sz="2400" spc="-1" strike="noStrike">
                <a:solidFill>
                  <a:srgbClr val="6c0000"/>
                </a:solidFill>
                <a:latin typeface="Arial"/>
              </a:rPr>
              <a:t>) — 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упрощает генерацию страниц, заменяя различные способы решения этой задачи единым механизмом, встроенным в Laravel.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Environment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— в зависимости от домена, может подгружать те или иные конфигурационные файлы.</a:t>
            </a:r>
            <a:br>
              <a:rPr sz="2000"/>
            </a:b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кажем, пропишем в файле paths.php 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Еще одна возможность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8388360" cy="1993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5084640"/>
            <a:ext cx="82296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, если мы зайдем с домена начинающегося на localhost или заканчивающегося на .dev. Фреймворк будет подгружать файлы конфигов с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папки application/config/local/* вместо application/config/*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ля установки Laravel нам понадобится composer (менеджер зависимостей для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Теперь вам необходимо скачать последнюю версию 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После чего в корне вашего laravel приложения (тот каталог куда вы установили фреймворк) введите команду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php composer.phar instal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Установка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55640" y="3213000"/>
            <a:ext cx="7993080" cy="178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5516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Готово, Фреймворк установлен </a:t>
            </a:r>
            <a:r>
              <a:rPr b="0" lang="en-US" sz="2000" spc="-1" strike="noStrike">
                <a:solidFill>
                  <a:srgbClr val="6c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Зайдя в каталог фреймворка мы увидим следующие каталог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ся вся логика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bootstra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инициализации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public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открытая часть нашего приложения, именно через index.php в этом каталоге будет работать приложение. Все файлы стилей/скриптов/картинки должны быть в этом каталоге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/vendo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содержаться файлы непосредственно самого фреймворка, файлы в этом каталоге трогать не нужно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Также в корне содержатся два файла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poser.jso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файл настроек для 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С помощью этого файла мы можем расширять фреймворк дополнительными компонентами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rtisan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это командная составляющая laravel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зберем основную директорию, с которой приходится чаще всего работать – директорию </a:t>
            </a: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 В этом каталоге находится вся логика нашего приложения, а также конфигурационные файлы, логи, миграции, кэш и т.д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Дирек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/app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2276640"/>
            <a:ext cx="82296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mmand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команд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fi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в этом каталоге хранятся все файлы конфигурации нашего приложения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наши контроллер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databas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храниться файлы миграций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lang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языковые файлы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model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моделей нашего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ar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ыполняемые при запуске приложен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storage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тут находятся файлы кэша, логи и т.д – данный каталог должен иметь права на запись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 - файлы вида нашего приложения. В общем наши шаблоны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подробнее структуру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на примере проекта «Inotravel». Это веб-система для поиска бесплатного жилья для путешественников. Функции системы: любой пользователь может воспользоваться поиском жилья, подать заявку на бронь жилья (но уже предварительно авторизуясь), создать свой профиль жилья для сдачи.</a:t>
            </a:r>
            <a:r>
              <a:rPr b="0" lang="ru-RU" sz="24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Пример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6767640" cy="3808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68360" y="630792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1. Главная страница сайта «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Inotravel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Структура директории /app проекта «Inotravel»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519960" cy="4510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124000" y="573336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2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models были созданы модели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Архитектура 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Model View </a:t>
            </a:r>
            <a:r>
              <a:rPr b="1" i="1" lang="ru-RU" sz="3800" spc="-1" strike="noStrike">
                <a:solidFill>
                  <a:srgbClr val="6c0000"/>
                </a:solidFill>
                <a:latin typeface="Arial"/>
              </a:rPr>
              <a:t>С</a:t>
            </a:r>
            <a:r>
              <a:rPr b="1" i="1" lang="en" sz="3800" spc="-1" strike="noStrike">
                <a:solidFill>
                  <a:srgbClr val="6c0000"/>
                </a:solidFill>
                <a:latin typeface="Arial"/>
              </a:rPr>
              <a:t>ontroller</a:t>
            </a:r>
            <a:r>
              <a:rPr b="0" lang="ru-RU" sz="3800" spc="-1" strike="noStrike">
                <a:solidFill>
                  <a:srgbClr val="6c0000"/>
                </a:solidFill>
                <a:latin typeface="Arial"/>
              </a:rPr>
              <a:t> </a:t>
            </a:r>
            <a:endParaRPr b="0" lang="en-US" sz="3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88360" cy="351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124000" y="573336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3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model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app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view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и созданы шаблоны (верстка):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4114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908000" y="5733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view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4920" y="764640"/>
            <a:ext cx="77979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 самое интересное - в директории 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ap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были созданы контроллеры: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423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763640" y="573336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Содержимое директории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/app/controller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77979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Рассмотрим их связь на примере авторизации функции «авторизация пользователя».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В директории /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ublic/j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 был создан 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main.js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6840720" cy="4210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35280" y="609228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6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javascript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main.js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19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2565360"/>
            <a:ext cx="7797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Файл 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routes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php 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бавляет в регистр маршрутов все методы ресурса (</a:t>
            </a:r>
            <a:r>
              <a:rPr b="0" lang="ru-RU" sz="20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REST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59493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routes.php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424720" cy="920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340000" y="1915560"/>
            <a:ext cx="47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Html-код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нопки «Войти»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8640720" cy="26589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19280" y="649044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Рис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Фрагмент php-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код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файла</a:t>
            </a: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 UserController.php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0000" y="125280"/>
            <a:ext cx="7128000" cy="638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6c0000"/>
                </a:solidFill>
                <a:latin typeface="Arial"/>
              </a:rPr>
              <a:t>А вот полезные и нужные ссылочки:</a:t>
            </a:r>
            <a:endParaRPr b="0" lang="en-US" sz="22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Официальный сайт 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2"/>
              </a:rPr>
              <a:t>фреймворка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по‐русски — сайт нашего сообщества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Документация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3"/>
              </a:rPr>
              <a:t>англий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+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4"/>
              </a:rPr>
              <a:t>API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На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5"/>
              </a:rPr>
              <a:t>русском языке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. Перевод соответствует версии 4.0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«Пакеты» (Packages) 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Для поиска пакетов для Laravel рекомендую воспользоваться замечательными сайтами: </a:t>
            </a:r>
            <a:r>
              <a:rPr b="0" lang="ru-RU" sz="1800" spc="-1" strike="noStrike" u="sng">
                <a:solidFill>
                  <a:srgbClr val="ff3b3b"/>
                </a:solidFill>
                <a:uFillTx/>
                <a:latin typeface="Arial"/>
                <a:hlinkClick r:id="rId6"/>
              </a:rPr>
              <a:t>Packalyst</a:t>
            </a: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 и</a:t>
            </a:r>
            <a:br>
              <a:rPr sz="1800"/>
            </a:b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Laravel Packages Registry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За новыми пакетами можно следить с помощью RSS и сообщений в twitter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000"/>
                </a:solidFill>
                <a:latin typeface="Arial"/>
              </a:rPr>
              <a:t>И, конечно же, пакеты для Laravel можно и нужно искать на Packagist и Github.</a:t>
            </a: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Хочу еще больше ссылок!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2835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Ссылк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160" y="623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640" y="1773360"/>
            <a:ext cx="5643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Спасибо</a:t>
            </a:r>
            <a:br>
              <a:rPr sz="5600"/>
            </a:br>
            <a:r>
              <a:rPr b="0" lang="ru-RU" sz="5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c0000"/>
                </a:solidFill>
                <a:latin typeface="Arial"/>
              </a:rPr>
              <a:t>Laravel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бесплатный веб-фреймворк с открытым кодом, предназначенный для разработки с использованием архитектурной модели 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3200" spc="-1" strike="noStrike">
                <a:solidFill>
                  <a:srgbClr val="6c0000"/>
                </a:solidFill>
                <a:latin typeface="Arial"/>
              </a:rPr>
              <a:t>Model View Controller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 — модель-представление-контроллер). Laravel выпущен под лицензией </a:t>
            </a:r>
            <a:r>
              <a:rPr b="0" lang="en-US" sz="3200" spc="-1" strike="noStrike">
                <a:solidFill>
                  <a:srgbClr val="6c0000"/>
                </a:solidFill>
                <a:latin typeface="Arial"/>
              </a:rPr>
              <a:t>MIT</a:t>
            </a:r>
            <a:r>
              <a:rPr b="0" lang="ru-RU" sz="3200" spc="-1" strike="noStrike">
                <a:solidFill>
                  <a:srgbClr val="6c0000"/>
                </a:solidFill>
                <a:latin typeface="Arial"/>
              </a:rPr>
              <a:t>. Исходный код проекта размещается на GitHub.</a:t>
            </a:r>
            <a:endParaRPr b="0" lang="en-US" sz="32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32720" y="6257160"/>
            <a:ext cx="3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был создан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Taylor Otwell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как более функциональная альтернатива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CodeIgniter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, который не предусматривал различные дополнительные функции. Первый бета-релиз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</a:t>
            </a:r>
            <a:r>
              <a:rPr b="0" lang="ru-RU" sz="3000" spc="-1" strike="noStrike">
                <a:solidFill>
                  <a:srgbClr val="c43508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стал доступен 9 июня 2011 года, а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ышел в этом же месяце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1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включает в себя встроенную поддержку для аутентификации, локализации, модели, представления, сессий, маршрутизации и других механизмов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848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2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сентябре 2011 года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Основные новые функции включают в себя поддержку контроллеров, которые сделали фреймворк полностью 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MVC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-совместимым, встроенную поддержку для инверсии управления, и систему шаблонов </a:t>
            </a:r>
            <a:r>
              <a:rPr b="1" lang="ru-RU" sz="3000" spc="-1" strike="noStrike">
                <a:solidFill>
                  <a:srgbClr val="6c0000"/>
                </a:solidFill>
                <a:latin typeface="Arial"/>
              </a:rPr>
              <a:t>Blade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49068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c0000"/>
                </a:solidFill>
                <a:latin typeface="Arial"/>
              </a:rPr>
              <a:t>История </a:t>
            </a: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Laravel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084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был выпущен в феврале 2012 года с набором новых функций, включая интерфейс командной строки (CLI) под именем "Artisan", встроенную поддержку нескольких систем управления базами данных, миграции баз данных в виде контроля версий, обработку событий. Выпуск </a:t>
            </a:r>
            <a:r>
              <a:rPr b="1" lang="ru-RU" sz="3000" spc="-1" strike="noStrike">
                <a:solidFill>
                  <a:srgbClr val="c43508"/>
                </a:solidFill>
                <a:latin typeface="Arial"/>
              </a:rPr>
              <a:t>Laravel 3</a:t>
            </a:r>
            <a:r>
              <a:rPr b="0" lang="ru-RU" sz="3000" spc="-1" strike="noStrike">
                <a:solidFill>
                  <a:srgbClr val="6c0000"/>
                </a:solidFill>
                <a:latin typeface="Arial"/>
              </a:rPr>
              <a:t> получил значительное увеличение числа пользователей, что повлияло на его популярность.</a:t>
            </a: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32720" y="623628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6c0000"/>
                </a:solidFill>
                <a:latin typeface="Arial"/>
              </a:rPr>
              <a:t>Ключевые особенности, лежащие в основе архитектуры Laravel: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Пакет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(англ. </a:t>
            </a:r>
            <a:r>
              <a:rPr b="0" i="1" lang="en" sz="2800" spc="-1" strike="noStrike">
                <a:solidFill>
                  <a:srgbClr val="6c0000"/>
                </a:solidFill>
                <a:latin typeface="Arial"/>
              </a:rPr>
              <a:t>packages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) — позволяют создавать и подключать модули в формат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Composer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к приложению на Laravel. Многие дополнительные возможности уже доступны в виде таких модулей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Eloquent </a:t>
            </a: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ORM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реализация шаблона проектирования </a:t>
            </a:r>
            <a:r>
              <a:rPr b="0" lang="ru-RU" sz="2800" spc="-1" strike="noStrike" u="sng">
                <a:solidFill>
                  <a:srgbClr val="ff3b3b"/>
                </a:solidFill>
                <a:uFillTx/>
                <a:latin typeface="Arial"/>
                <a:hlinkClick r:id="rId1"/>
              </a:rPr>
              <a:t>ActiveRecord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на PHP. Позволяет строго определить отношения между объектами базы данных. Стандартный для Laravel построитель запросов Fluent поддерживается ядром Eloquent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457200"/>
            <a:ext cx="75708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Логика приложен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часть разрабатываемого приложения, объявленная либо при помощи контроллеров, либо маршрутов (функций-замыканий). 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Обратная маршрутизация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связывает между собой генерируемые приложением ссылки и маршруты, позволяя изменять последние с автоматическим обновлением связанных ссылок. При создании ссылок с помощью именованных маршрутов Laravel автоматически генерирует конечные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URL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c0000"/>
                </a:solidFill>
                <a:latin typeface="Arial"/>
              </a:rPr>
              <a:t>REST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-контроллеры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дополнительный слой для разделения логики обработки GET- и POST-запро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HTT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d2d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Автозагрузка классов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— механизм автоматической загрузки классов </a:t>
            </a:r>
            <a:r>
              <a:rPr b="0" lang="en-US" sz="2800" spc="-1" strike="noStrike">
                <a:solidFill>
                  <a:srgbClr val="6c0000"/>
                </a:solidFill>
                <a:latin typeface="Arial"/>
              </a:rPr>
              <a:t>PHP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 без необходимости подключать файлы их определений в </a:t>
            </a:r>
            <a:r>
              <a:rPr b="0" i="1" lang="ru-RU" sz="2800" spc="-1" strike="noStrike">
                <a:solidFill>
                  <a:srgbClr val="6c0000"/>
                </a:solidFill>
                <a:latin typeface="Arial"/>
              </a:rPr>
              <a:t>include</a:t>
            </a:r>
            <a:r>
              <a:rPr b="0" lang="ru-RU" sz="2800" spc="-1" strike="noStrike">
                <a:solidFill>
                  <a:srgbClr val="6c0000"/>
                </a:solidFill>
                <a:latin typeface="Arial"/>
              </a:rPr>
              <a:t>. Загрузка по требованию предотвращает загрузку ненужных компонентов; загружаются только те из них, которые действительно используются.</a:t>
            </a:r>
            <a:endParaRPr b="0" lang="en-US" sz="28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116000" y="475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c0000"/>
                </a:solidFill>
                <a:latin typeface="Arial"/>
              </a:rPr>
              <a:t>Возможности</a:t>
            </a:r>
            <a:endParaRPr b="0" lang="en-US" sz="4000" spc="-1" strike="noStrike">
              <a:solidFill>
                <a:srgbClr val="6c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534160" y="623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6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14:19:26Z</dcterms:created>
  <dc:creator>student</dc:creator>
  <dc:description/>
  <dc:language>en-US</dc:language>
  <cp:lastModifiedBy>student</cp:lastModifiedBy>
  <dcterms:modified xsi:type="dcterms:W3CDTF">2015-12-16T21:22:15Z</dcterms:modified>
  <cp:revision>9</cp:revision>
  <dc:subject/>
  <dc:title>Слайд 1</dc:title>
</cp:coreProperties>
</file>