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E2691-285F-41F9-B217-AEA2A2E13C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8991E-5D0A-4A85-8085-F17289E2F5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F0DEE-E393-4FF5-914C-EE85139F57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45E5B-F2FA-4F28-977A-9B708589EC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051D4-566A-43C7-A130-7C29199A4B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23498-4655-422C-B1F4-38DDF7D39E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FF2-F22E-4588-AE5A-A19E9B9C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BC3-537C-4F72-B08B-069CCEB0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A85-3374-4598-AA66-44834160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F99-0E1D-4D04-AA0F-B37487BF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9E9-5ECE-47C1-9323-EDCE5DC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813-2A35-4126-9709-2B54555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6756-20BB-43F2-975C-7D15CD8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7CD-07CD-4827-97E3-48D0A327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30D-8461-4B8B-84EB-ECC02117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E47-C7F3-4715-B4D4-3D7C3513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F937-5F54-445D-A4A5-13FA2D2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DC1-C07C-4846-A841-EE6EC18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BFF7AF-B379-43F9-BE1D-88AF12DAD6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</a:rPr>
              <a:t>Ruby on Rai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539640" y="1779480"/>
            <a:ext cx="88585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2920" y="636480"/>
            <a:ext cx="886788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Скорость разработ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сновное преимущест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ость разработки проектов на RoR увеличивается на 30–40 процентов по отношению к любому другому языку программирования или фреймвор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ссальный набором готовых решени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I:\rails\content_samolet.jpg"/>
          <p:cNvPicPr/>
          <p:nvPr/>
        </p:nvPicPr>
        <p:blipFill>
          <a:blip r:embed="rId1"/>
          <a:stretch/>
        </p:blipFill>
        <p:spPr>
          <a:xfrm>
            <a:off x="3397320" y="1279440"/>
            <a:ext cx="2657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280" y="565200"/>
            <a:ext cx="9155160" cy="551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oR идеология предполагает изначальное использование методов BDD (Behavior Driven Development) или TDD (Test Driven Development). Это ускоряет переход проекта от стадии «программа написана» к стадии «программа работает без ошибо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I:\rails\content_5.jpg"/>
          <p:cNvPicPr/>
          <p:nvPr/>
        </p:nvPicPr>
        <p:blipFill>
          <a:blip r:embed="rId1"/>
          <a:stretch/>
        </p:blipFill>
        <p:spPr>
          <a:xfrm>
            <a:off x="3754440" y="851040"/>
            <a:ext cx="27766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31640" y="971280"/>
            <a:ext cx="8939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ш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товые и штатные ре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ние целых страниц или же блоков кода. Кеширование результаты запросов и ActiveRecord–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ть можно как при помощи memcached или redis, так и другими сред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ка различных языков на сайте как изначально, так и в дальнейш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аблоны для разных языков, конфигурационные файлы с переводами тер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у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ивые ур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деология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а страниц в проектах на Ruby on Rails всегда понятны, красивы, прекрасно понимаются поисковиками, прос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добная валидация входящи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и  правильность ввода адреса электронной почты, наличие пароля или необходимую минимальную длину ло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2920" y="395280"/>
            <a:ext cx="8867880" cy="57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грации и работа с базой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а структура будет всегда в репозитории, любое изменение структуры будет задокументировано и привязано к определенному коммиту в репоз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01680"/>
            <a:ext cx="903312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ithub </a:t>
            </a:r>
            <a:br>
              <a:rPr sz="8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thub Ruby, Ruby On Rails, PHP, Twitter project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Query, Facebook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I:\rails\images.jpg"/>
          <p:cNvPicPr/>
          <p:nvPr/>
        </p:nvPicPr>
        <p:blipFill>
          <a:blip r:embed="rId1"/>
          <a:stretch/>
        </p:blipFill>
        <p:spPr>
          <a:xfrm>
            <a:off x="3897360" y="4565520"/>
            <a:ext cx="2143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использовании инструментов RoR исключены SQL инъекции и XSS ат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входные параметры экранируется по умолч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имые переменные в шаблонах также экранируются, только если вы не указали обратной опц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:\rails\images.jpg"/>
          <p:cNvPicPr/>
          <p:nvPr/>
        </p:nvPicPr>
        <p:blipFill>
          <a:blip r:embed="rId1"/>
          <a:stretch/>
        </p:blipFill>
        <p:spPr>
          <a:xfrm>
            <a:off x="3397320" y="7081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бые стороны: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I:\rails\a074ee20304fc1cb7a08ea38de36f30d1408690806.jpg"/>
          <p:cNvPicPr/>
          <p:nvPr/>
        </p:nvPicPr>
        <p:blipFill>
          <a:blip r:embed="rId1"/>
          <a:stretch/>
        </p:blipFill>
        <p:spPr>
          <a:xfrm>
            <a:off x="539640" y="1779480"/>
            <a:ext cx="8786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50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Что это такое Ruby on Rails?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uby on Rails—полноценный фреймворк для построения веб-приложений, использующих базы данных, который основан на архитектуре Модель-Представление-Контроллер (Model-View-Controller, MV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цензия M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02920" y="922320"/>
            <a:ext cx="886788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языку выше начального уровня может оказаться непростым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нформационных ресурсов, посвящённых Ruby, явно недостато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I:\rails\websites-built-with-ruby-thumb.jpg"/>
          <p:cNvPicPr/>
          <p:nvPr/>
        </p:nvPicPr>
        <p:blipFill>
          <a:blip r:embed="rId1"/>
          <a:stretch/>
        </p:blipFill>
        <p:spPr>
          <a:xfrm>
            <a:off x="3325680" y="3708360"/>
            <a:ext cx="2857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Ruby менее производителен по сравнению со многими другими языками, применяемыми в веб-разработ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Ruby относительно медленно разрабатывается и разв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I:\rails\How-To-Deploy-Ruby-On-Rails.jpg"/>
          <p:cNvPicPr/>
          <p:nvPr/>
        </p:nvPicPr>
        <p:blipFill>
          <a:blip r:embed="rId1"/>
          <a:stretch/>
        </p:blipFill>
        <p:spPr>
          <a:xfrm>
            <a:off x="503280" y="1351080"/>
            <a:ext cx="8867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I:\rails\original.jpg"/>
          <p:cNvPicPr/>
          <p:nvPr/>
        </p:nvPicPr>
        <p:blipFill>
          <a:blip r:embed="rId1"/>
          <a:stretch/>
        </p:blipFill>
        <p:spPr>
          <a:xfrm>
            <a:off x="1468440" y="1494000"/>
            <a:ext cx="7151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2920" y="993600"/>
            <a:ext cx="8867880" cy="515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ид Хейнемейер Ханс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I:\rails\d6d323aaecc61aee2bd0746b345ae490.jpg"/>
          <p:cNvPicPr/>
          <p:nvPr/>
        </p:nvPicPr>
        <p:blipFill>
          <a:blip r:embed="rId1"/>
          <a:stretch/>
        </p:blipFill>
        <p:spPr>
          <a:xfrm>
            <a:off x="3611520" y="2585880"/>
            <a:ext cx="287028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1640" y="755280"/>
            <a:ext cx="894096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тектура R-приложений накладывает весьма серьезные ограничения на структурирование веб-приложений, но эти ограничения упрощают создание прилож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ель-Представление-Контроллер (Model-View-Controller, MV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79440" y="1673280"/>
            <a:ext cx="6546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отвечает за поддержку состояния приложени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модели  осуществляют загрузку и сохранение данных в реляционной базе данных, а также реализуют бизнес-лог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– это сторож и хранитель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ПРЕДСТ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отвечает за формирование пользовательского интерфейса, который обычно основан на данных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Ruby on Rails представление описывается при помощи шаблонов ERB. Они представляют собой файлы HTML с дополнительными включениями фрагментов кода Ruby (Embedded Ruby или ERb). Вывод, сгенерированный встроенным кодом Ruby, включается в текст шаблона, после чего получившаяся страница HTML возвращается пользователю. Кроме ERB возможно использовать ещё около 20 шаблонизаторов, в том числе Ha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КОНТРОЛ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роллеры организуют работу приложения. Контроллер в Rails — это набор логики, запускаемой после получения HTTP-запроса сервером. Контроллер воспринимает ввод данных пользователем отвечает за вызов методов модели и запускает формирование пре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ьные ст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I:\rails\content_2.jpg"/>
          <p:cNvPicPr/>
          <p:nvPr/>
        </p:nvPicPr>
        <p:blipFill>
          <a:blip r:embed="rId1"/>
          <a:stretch/>
        </p:blipFill>
        <p:spPr>
          <a:xfrm>
            <a:off x="468360" y="1708200"/>
            <a:ext cx="8929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0T09:48:41Z</dcterms:created>
  <dc:creator>booka </dc:creator>
  <dc:description/>
  <dc:language>en-US</dc:language>
  <cp:lastModifiedBy>Corporate User</cp:lastModifiedBy>
  <dcterms:modified xsi:type="dcterms:W3CDTF">2015-12-16T20:12:51Z</dcterms:modified>
  <cp:revision>107</cp:revision>
  <dc:subject/>
  <dc:title>ТЕРМООБРАБОТКА</dc:title>
</cp:coreProperties>
</file>