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D3AA03-19F3-42DA-9956-A3ED4C43189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DB2B1A-1E85-4EE6-9809-77E71457F33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811855-3AB6-493B-8568-E1A92A10764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40D2E4-5355-42FD-830B-737D6C3658D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F8B90F-B83B-4353-A7B7-91DBE5310C2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3D39D0-979F-4009-9099-98B499CEFDC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02A7-2FA8-4A9F-8BD3-59C95ACCA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8E79-8513-4944-9A62-5F9ABC44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8EA2-4591-4192-A853-5BD0B2452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44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44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9A87-F4E4-46D2-AEA6-F05AC4B1B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003C-A267-4F2A-8946-403F7090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CCB2-B784-4AD0-8233-AC5C7DCD4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3AC3-2D55-477E-ACE7-132CB4C8A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C695-C412-4822-AEF6-D6BC7F7EC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B5EF-9BE0-42E3-8C84-DD6B1CE85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132E-A7AF-49E1-9331-F8191864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FA2B-CAF9-477A-B2D4-9D678BE4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65E2-296C-4277-ADEA-9F90905C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4D56865-3DBE-41F6-B9D9-A8CD04AF64F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8920" y="32364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0" spc="-1" strike="noStrike">
                <a:solidFill>
                  <a:srgbClr val="c00000"/>
                </a:solidFill>
                <a:latin typeface="Times New Roman"/>
              </a:rPr>
              <a:t>Ruby on Rail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9" descr=""/>
          <p:cNvPicPr/>
          <p:nvPr/>
        </p:nvPicPr>
        <p:blipFill>
          <a:blip r:embed="rId1"/>
          <a:stretch/>
        </p:blipFill>
        <p:spPr>
          <a:xfrm>
            <a:off x="539640" y="1779480"/>
            <a:ext cx="8858520" cy="43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502920" y="636480"/>
            <a:ext cx="8867880" cy="5515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Скорость разработк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основное преимуществ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корость разработки проектов на RoR увеличивается на 30–40 процентов по отношению к любому другому языку программирования или фреймворк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лоссальный набором готовых решени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I:\rails\content_samolet.jpg"/>
          <p:cNvPicPr/>
          <p:nvPr/>
        </p:nvPicPr>
        <p:blipFill>
          <a:blip r:embed="rId1"/>
          <a:stretch/>
        </p:blipFill>
        <p:spPr>
          <a:xfrm>
            <a:off x="3397320" y="1279440"/>
            <a:ext cx="265752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31280" y="565200"/>
            <a:ext cx="9155160" cy="551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ест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RoR идеология предполагает изначальное использование методов BDD (Behavior Driven Development) или TDD (Test Driven Development). Это ускоряет переход проекта от стадии «программа написана» к стадии «программа работает без ошибок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I:\rails\content_5.jpg"/>
          <p:cNvPicPr/>
          <p:nvPr/>
        </p:nvPicPr>
        <p:blipFill>
          <a:blip r:embed="rId1"/>
          <a:stretch/>
        </p:blipFill>
        <p:spPr>
          <a:xfrm>
            <a:off x="3754440" y="851040"/>
            <a:ext cx="277668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31640" y="971280"/>
            <a:ext cx="8939520" cy="518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еш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товые и штатные реш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еширование целых страниц или же блоков кода. Кеширование результаты запросов и ActiveRecord–модел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ешировать можно как при помощи memcached или redis, так и другими средств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60360" y="684000"/>
            <a:ext cx="9010800" cy="5467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окализ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держка различных языков на сайте как изначально, так и в дальнейше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Шаблоны для разных языков, конфигурационные файлы с переводами терми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60360" y="684000"/>
            <a:ext cx="9010800" cy="5467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оут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асивые ур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деология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дреса страниц в проектах на Ruby on Rails всегда понятны, красивы, прекрасно понимаются поисковиками, прос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60360" y="611280"/>
            <a:ext cx="9010800" cy="5540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добная валидация входящих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ормы и  правильность ввода адреса электронной почты, наличие пароля или необходимую минимальную длину лог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502920" y="395280"/>
            <a:ext cx="8867880" cy="575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играции и работа с базой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аша структура будет всегда в репозитории, любое изменение структуры будет задокументировано и привязано к определенному коммиту в репозитор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01680"/>
            <a:ext cx="9033120" cy="38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Github </a:t>
            </a:r>
            <a:br>
              <a:rPr sz="80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thub Ruby, Ruby On Rails, PHP, Twitter projects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Query, Facebook project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I:\rails\images.jpg"/>
          <p:cNvPicPr/>
          <p:nvPr/>
        </p:nvPicPr>
        <p:blipFill>
          <a:blip r:embed="rId1"/>
          <a:stretch/>
        </p:blipFill>
        <p:spPr>
          <a:xfrm>
            <a:off x="3897360" y="4565520"/>
            <a:ext cx="214308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60360" y="611280"/>
            <a:ext cx="9010800" cy="5540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езопас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использовании инструментов RoR исключены SQL инъекции и XSS ата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се входные параметры экранируется по умолчани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водимые переменные в шаблонах также экранируются, только если вы не указали обратной опци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I:\rails\images.jpg"/>
          <p:cNvPicPr/>
          <p:nvPr/>
        </p:nvPicPr>
        <p:blipFill>
          <a:blip r:embed="rId1"/>
          <a:stretch/>
        </p:blipFill>
        <p:spPr>
          <a:xfrm>
            <a:off x="3397320" y="708120"/>
            <a:ext cx="28573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лабые стороны:??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I:\rails\a074ee20304fc1cb7a08ea38de36f30d1408690806.jpg"/>
          <p:cNvPicPr/>
          <p:nvPr/>
        </p:nvPicPr>
        <p:blipFill>
          <a:blip r:embed="rId1"/>
          <a:stretch/>
        </p:blipFill>
        <p:spPr>
          <a:xfrm>
            <a:off x="539640" y="1779480"/>
            <a:ext cx="87868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3506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</a:rPr>
              <a:t>Что это такое Ruby on Rails?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Ruby on Rails—полноценный фреймворк для построения веб-приложений, использующих базы данных, который основан на архитектуре Модель-Представление-Контроллер (Model-View-Controller, MVC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Лицензия MI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02920" y="922320"/>
            <a:ext cx="8867880" cy="522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14440" indent="-514440" algn="ctr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учение языку выше начального уровня может оказаться непростым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Информационных ресурсов, посвящённых Ruby, явно недостаточн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I:\rails\websites-built-with-ruby-thumb.jpg"/>
          <p:cNvPicPr/>
          <p:nvPr/>
        </p:nvPicPr>
        <p:blipFill>
          <a:blip r:embed="rId1"/>
          <a:stretch/>
        </p:blipFill>
        <p:spPr>
          <a:xfrm>
            <a:off x="3325680" y="3708360"/>
            <a:ext cx="28576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Ruby менее производителен по сравнению со многими другими языками, применяемыми в веб-разработк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Ruby относительно медленно разрабатывается и развива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I:\rails\How-To-Deploy-Ruby-On-Rails.jpg"/>
          <p:cNvPicPr/>
          <p:nvPr/>
        </p:nvPicPr>
        <p:blipFill>
          <a:blip r:embed="rId1"/>
          <a:stretch/>
        </p:blipFill>
        <p:spPr>
          <a:xfrm>
            <a:off x="503280" y="1351080"/>
            <a:ext cx="886788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Ы?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I:\rails\original.jpg"/>
          <p:cNvPicPr/>
          <p:nvPr/>
        </p:nvPicPr>
        <p:blipFill>
          <a:blip r:embed="rId1"/>
          <a:stretch/>
        </p:blipFill>
        <p:spPr>
          <a:xfrm>
            <a:off x="1468440" y="1494000"/>
            <a:ext cx="7151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02920" y="993600"/>
            <a:ext cx="8867880" cy="5158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СПАСИБО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ЗА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авид Хейнемейер Хансс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I:\rails\d6d323aaecc61aee2bd0746b345ae490.jpg"/>
          <p:cNvPicPr/>
          <p:nvPr/>
        </p:nvPicPr>
        <p:blipFill>
          <a:blip r:embed="rId1"/>
          <a:stretch/>
        </p:blipFill>
        <p:spPr>
          <a:xfrm>
            <a:off x="3611520" y="2585880"/>
            <a:ext cx="2870280" cy="29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31640" y="755280"/>
            <a:ext cx="8940960" cy="539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рхитектура R-приложений накладывает весьма серьезные ограничения на структурирование веб-приложений, но эти ограничения упрощают создание приложени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одель-Представление-Контроллер (Model-View-Controller, MV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279440" y="1673280"/>
            <a:ext cx="654696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4c19"/>
                </a:solidFill>
                <a:latin typeface="Arial"/>
              </a:rPr>
              <a:t>МОД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дель отвечает за поддержку состояния приложения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ъекты модели  осуществляют загрузку и сохранение данных в реляционной базе данных, а также реализуют бизнес-логи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дель – это сторож и хранитель дан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2364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4c19"/>
                </a:solidFill>
                <a:latin typeface="Arial"/>
              </a:rPr>
              <a:t>ПРЕДСТАВ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ставление отвечает за формирование пользовательского интерфейса, который обычно основан на данных мод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Ruby on Rails представление описывается при помощи шаблонов ERB. Они представляют собой файлы HTML с дополнительными включениями фрагментов кода Ruby (Embedded Ruby или ERb). Вывод, сгенерированный встроенным кодом Ruby, включается в текст шаблона, после чего получившаяся страница HTML возвращается пользователю. Кроме ERB возможно использовать ещё около 20 шаблонизаторов, в том числе Ham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4c19"/>
                </a:solidFill>
                <a:latin typeface="Arial"/>
              </a:rPr>
              <a:t>КОНТРОЛЛ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роллеры организуют работу приложения. Контроллер в Rails — это набор логики, запускаемой после получения HTTP-запроса сервером. Контроллер воспринимает ввод данных пользователем отвечает за вызов методов модели и запускает формирование представ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ильные сторо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I:\rails\content_2.jpg"/>
          <p:cNvPicPr/>
          <p:nvPr/>
        </p:nvPicPr>
        <p:blipFill>
          <a:blip r:embed="rId1"/>
          <a:stretch/>
        </p:blipFill>
        <p:spPr>
          <a:xfrm>
            <a:off x="468360" y="1708200"/>
            <a:ext cx="892980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0T09:48:41Z</dcterms:created>
  <dc:creator>booka </dc:creator>
  <dc:description/>
  <dc:language>en-US</dc:language>
  <cp:lastModifiedBy>Corporate User</cp:lastModifiedBy>
  <dcterms:modified xsi:type="dcterms:W3CDTF">2015-12-16T20:12:51Z</dcterms:modified>
  <cp:revision>107</cp:revision>
  <dc:subject/>
  <dc:title>ТЕРМООБРАБОТКА</dc:title>
</cp:coreProperties>
</file>