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D84A7-2121-4C83-A4ED-70CA9BC603F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4E48B-5806-4ACB-8DE6-536FFB25A2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C3764-A557-4006-BEB7-76BBF90647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5CE5C-85D2-4DCF-AE01-93515FB310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8FEC9-4CE6-4570-B1AA-F9B87D5DDF7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6DC35-80A6-4B04-AA7C-4DDF4394ECC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8E10-61EF-43A3-BC1C-9617A84E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15FF-179F-48E1-8AFD-C07A82B6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103A-2E8E-443D-A87F-E98F9BC0D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9EBF-9BDC-45D2-B46A-592A5BF00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FAE4-3227-4C0E-AA54-3399C1F8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6266-1F4A-4C2F-9324-CBD40371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4ECD-4BC0-4D2B-8B65-7F8A4697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D7BB-ED5C-48D2-927C-9ED5F28D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308F-57BF-4B20-8462-C1DB28A2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BB31-0C52-4FBA-A6DD-E3D74A56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9DAF-EA64-4C16-9DA2-705F2BEE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48F4-C0C4-4285-A251-C4DA6977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8DFAB32-06CA-45C0-89DF-E17E78B315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8920" y="32364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c00000"/>
                </a:solidFill>
                <a:latin typeface="Times New Roman"/>
              </a:rPr>
              <a:t>Ruby on Rail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539640" y="1779480"/>
            <a:ext cx="885852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02920" y="636480"/>
            <a:ext cx="886788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Скорость разработ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основное преимуществ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орость разработки проектов на RoR увеличивается на 30–40 процентов по отношению к любому другому языку программирования или фреймворк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оссальный набором готовых решени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I:\rails\content_samolet.jpg"/>
          <p:cNvPicPr/>
          <p:nvPr/>
        </p:nvPicPr>
        <p:blipFill>
          <a:blip r:embed="rId1"/>
          <a:stretch/>
        </p:blipFill>
        <p:spPr>
          <a:xfrm>
            <a:off x="3397320" y="1279440"/>
            <a:ext cx="26575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31280" y="565200"/>
            <a:ext cx="9155160" cy="551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с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RoR идеология предполагает изначальное использование методов BDD (Behavior Driven Development) или TDD (Test Driven Development). Это ускоряет переход проекта от стадии «программа написана» к стадии «программа работает без ошибок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I:\rails\content_5.jpg"/>
          <p:cNvPicPr/>
          <p:nvPr/>
        </p:nvPicPr>
        <p:blipFill>
          <a:blip r:embed="rId1"/>
          <a:stretch/>
        </p:blipFill>
        <p:spPr>
          <a:xfrm>
            <a:off x="3754440" y="851040"/>
            <a:ext cx="27766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31640" y="971280"/>
            <a:ext cx="893952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еш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товые и штатные реш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еширование целых страниц или же блоков кода. Кеширование результаты запросов и ActiveRecord–моде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ешировать можно как при помощи memcached или redis, так и другими средств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60360" y="684000"/>
            <a:ext cx="901080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ока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держка различных языков на сайте как изначально, так и в дальнейш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Шаблоны для разных языков, конфигурационные файлы с переводами терм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60360" y="684000"/>
            <a:ext cx="901080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оу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асивые ур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деология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дреса страниц в проектах на Ruby on Rails всегда понятны, красивы, прекрасно понимаются поисковиками, прос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60360" y="611280"/>
            <a:ext cx="901080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добная валидация входящи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ы и  правильность ввода адреса электронной почты, наличие пароля или необходимую минимальную длину лог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502920" y="395280"/>
            <a:ext cx="8867880" cy="575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играции и работа с базой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ша структура будет всегда в репозитории, любое изменение структуры будет задокументировано и привязано к определенному коммиту в репозитор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01680"/>
            <a:ext cx="9033120" cy="3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Github </a:t>
            </a:r>
            <a:br>
              <a:rPr sz="80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thub Ruby, Ruby On Rails, PHP, Twitter project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Query, Facebook projec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I:\rails\images.jpg"/>
          <p:cNvPicPr/>
          <p:nvPr/>
        </p:nvPicPr>
        <p:blipFill>
          <a:blip r:embed="rId1"/>
          <a:stretch/>
        </p:blipFill>
        <p:spPr>
          <a:xfrm>
            <a:off x="3897360" y="4565520"/>
            <a:ext cx="21430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60360" y="611280"/>
            <a:ext cx="901080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использовании инструментов RoR исключены SQL инъекции и XSS ата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 входные параметры экранируется по умолчани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водимые переменные в шаблонах также экранируются, только если вы не указали обратной опци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I:\rails\images.jpg"/>
          <p:cNvPicPr/>
          <p:nvPr/>
        </p:nvPicPr>
        <p:blipFill>
          <a:blip r:embed="rId1"/>
          <a:stretch/>
        </p:blipFill>
        <p:spPr>
          <a:xfrm>
            <a:off x="3397320" y="708120"/>
            <a:ext cx="2857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абые стороны:?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I:\rails\a074ee20304fc1cb7a08ea38de36f30d1408690806.jpg"/>
          <p:cNvPicPr/>
          <p:nvPr/>
        </p:nvPicPr>
        <p:blipFill>
          <a:blip r:embed="rId1"/>
          <a:stretch/>
        </p:blipFill>
        <p:spPr>
          <a:xfrm>
            <a:off x="539640" y="1779480"/>
            <a:ext cx="87868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3506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</a:rPr>
              <a:t>Что это такое Ruby on Rails?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Ruby on Rails—полноценный фреймворк для построения веб-приложений, использующих базы данных, который основан на архитектуре Модель-Представление-Контроллер (Model-View-Controller, MV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Лицензия M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02920" y="922320"/>
            <a:ext cx="8867880" cy="522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14440" indent="-514440" algn="ctr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ение языку выше начального уровня может оказаться непростым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Информационных ресурсов, посвящённых Ruby, явно недостаточ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I:\rails\websites-built-with-ruby-thumb.jpg"/>
          <p:cNvPicPr/>
          <p:nvPr/>
        </p:nvPicPr>
        <p:blipFill>
          <a:blip r:embed="rId1"/>
          <a:stretch/>
        </p:blipFill>
        <p:spPr>
          <a:xfrm>
            <a:off x="3325680" y="3708360"/>
            <a:ext cx="28576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Ruby менее производителен по сравнению со многими другими языками, применяемыми в веб-разработк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Ruby относительно медленно разрабатывается и развив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I:\rails\How-To-Deploy-Ruby-On-Rails.jpg"/>
          <p:cNvPicPr/>
          <p:nvPr/>
        </p:nvPicPr>
        <p:blipFill>
          <a:blip r:embed="rId1"/>
          <a:stretch/>
        </p:blipFill>
        <p:spPr>
          <a:xfrm>
            <a:off x="503280" y="1351080"/>
            <a:ext cx="88678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I:\rails\original.jpg"/>
          <p:cNvPicPr/>
          <p:nvPr/>
        </p:nvPicPr>
        <p:blipFill>
          <a:blip r:embed="rId1"/>
          <a:stretch/>
        </p:blipFill>
        <p:spPr>
          <a:xfrm>
            <a:off x="1468440" y="1494000"/>
            <a:ext cx="7151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02920" y="993600"/>
            <a:ext cx="8867880" cy="515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ПАСИБО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ЗА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авид Хейнемейер Хансс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I:\rails\d6d323aaecc61aee2bd0746b345ae490.jpg"/>
          <p:cNvPicPr/>
          <p:nvPr/>
        </p:nvPicPr>
        <p:blipFill>
          <a:blip r:embed="rId1"/>
          <a:stretch/>
        </p:blipFill>
        <p:spPr>
          <a:xfrm>
            <a:off x="3611520" y="2585880"/>
            <a:ext cx="2870280" cy="29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31640" y="755280"/>
            <a:ext cx="8940960" cy="53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рхитектура R-приложений накладывает весьма серьезные ограничения на структурирование веб-приложений, но эти ограничения упрощают создание приложе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ель-Представление-Контроллер (Model-View-Controller, MV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279440" y="1673280"/>
            <a:ext cx="654696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4c19"/>
                </a:solidFill>
                <a:latin typeface="Arial"/>
              </a:rPr>
              <a:t>МОД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дель отвечает за поддержку состояния приложения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ъекты модели  осуществляют загрузку и сохранение данных в реляционной базе данных, а также реализуют бизнес-логи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дель – это сторож и хранитель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2364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4c19"/>
                </a:solidFill>
                <a:latin typeface="Arial"/>
              </a:rPr>
              <a:t>ПРЕДСТ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ставление отвечает за формирование пользовательского интерфейса, который обычно основан на данных мод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Ruby on Rails представление описывается при помощи шаблонов ERB. Они представляют собой файлы HTML с дополнительными включениями фрагментов кода Ruby (Embedded Ruby или ERb). Вывод, сгенерированный встроенным кодом Ruby, включается в текст шаблона, после чего получившаяся страница HTML возвращается пользователю. Кроме ERB возможно использовать ещё около 20 шаблонизаторов, в том числе Ham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4c19"/>
                </a:solidFill>
                <a:latin typeface="Arial"/>
              </a:rPr>
              <a:t>КОНТРОЛЛ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роллеры организуют работу приложения. Контроллер в Rails — это набор логики, запускаемой после получения HTTP-запроса сервером. Контроллер воспринимает ввод данных пользователем отвечает за вызов методов модели и запускает формирование предста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льные сторо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I:\rails\content_2.jpg"/>
          <p:cNvPicPr/>
          <p:nvPr/>
        </p:nvPicPr>
        <p:blipFill>
          <a:blip r:embed="rId1"/>
          <a:stretch/>
        </p:blipFill>
        <p:spPr>
          <a:xfrm>
            <a:off x="468360" y="1708200"/>
            <a:ext cx="892980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0T09:48:41Z</dcterms:created>
  <dc:creator>booka </dc:creator>
  <dc:description/>
  <dc:language>en-US</dc:language>
  <cp:lastModifiedBy>Corporate User</cp:lastModifiedBy>
  <dcterms:modified xsi:type="dcterms:W3CDTF">2015-12-16T20:12:51Z</dcterms:modified>
  <cp:revision>107</cp:revision>
  <dc:subject/>
  <dc:title>ТЕРМООБРАБОТКА</dc:title>
</cp:coreProperties>
</file>